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7241-A936-42F2-B8B9-26DCB1C28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7A73-E813-43DB-BA6E-8BB269D9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A88C-3D59-47B3-9314-FA2EEA8C3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B38A-93E2-4863-A9E0-C8D270997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DAA2-A262-4752-B567-8C8C5467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4250-0174-4193-9376-CFE1CBB4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97DB-CA9E-4D26-8F96-4EF323B8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BD2F-8F6A-4D43-9163-3B12836A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F616-BC36-4BB1-A9BB-88E89999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1895-B9EA-413C-8BCE-0C03811E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8312-D99C-4CD6-B23A-98E21CF4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9AFE-2B46-4BEF-AE66-15B753AB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D329-D75D-421B-A622-81C63C0E4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-up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75212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676520" y="1828800"/>
                <a:ext cx="106668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7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4481280" y="16686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5334120" y="1981080"/>
                <a:ext cx="10666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1125360" y="2643120"/>
            <a:ext cx="660600" cy="758880"/>
          </a:xfrm>
          <a:custGeom>
            <a:avLst/>
            <a:gdLst/>
            <a:ahLst/>
            <a:rect l="l" t="t" r="r" b="b"/>
            <a:pathLst>
              <a:path w="1837" h="2110">
                <a:moveTo>
                  <a:pt x="3225" y="8558"/>
                </a:moveTo>
                <a:cubicBezTo>
                  <a:pt x="3372" y="8528"/>
                  <a:pt x="3463" y="8506"/>
                  <a:pt x="3621" y="8533"/>
                </a:cubicBezTo>
                <a:cubicBezTo>
                  <a:pt x="3633" y="8770"/>
                  <a:pt x="3581" y="8778"/>
                  <a:pt x="3398" y="8930"/>
                </a:cubicBezTo>
                <a:cubicBezTo>
                  <a:pt x="3589" y="8815"/>
                  <a:pt x="3650" y="8980"/>
                  <a:pt x="3597" y="9178"/>
                </a:cubicBezTo>
                <a:cubicBezTo>
                  <a:pt x="3531" y="9423"/>
                  <a:pt x="3326" y="9407"/>
                  <a:pt x="3125" y="9451"/>
                </a:cubicBezTo>
              </a:path>
              <a:path w="1837" h="2110">
                <a:moveTo>
                  <a:pt x="4366" y="7888"/>
                </a:moveTo>
                <a:cubicBezTo>
                  <a:pt x="4507" y="7931"/>
                  <a:pt x="4837" y="8059"/>
                  <a:pt x="4589" y="8260"/>
                </a:cubicBezTo>
                <a:cubicBezTo>
                  <a:pt x="4434" y="8326"/>
                  <a:pt x="4397" y="8346"/>
                  <a:pt x="4291" y="8359"/>
                </a:cubicBezTo>
                <a:cubicBezTo>
                  <a:pt x="4333" y="8174"/>
                  <a:pt x="4500" y="8183"/>
                  <a:pt x="4663" y="8260"/>
                </a:cubicBezTo>
                <a:cubicBezTo>
                  <a:pt x="4688" y="8285"/>
                  <a:pt x="4713" y="8309"/>
                  <a:pt x="4738" y="8334"/>
                </a:cubicBezTo>
              </a:path>
              <a:path w="1837" h="2110">
                <a:moveTo>
                  <a:pt x="4242" y="8607"/>
                </a:moveTo>
                <a:cubicBezTo>
                  <a:pt x="4465" y="8572"/>
                  <a:pt x="4687" y="8537"/>
                  <a:pt x="4911" y="8508"/>
                </a:cubicBezTo>
              </a:path>
              <a:path w="1837" h="2110">
                <a:moveTo>
                  <a:pt x="4812" y="8905"/>
                </a:moveTo>
                <a:cubicBezTo>
                  <a:pt x="4724" y="8912"/>
                  <a:pt x="4603" y="8910"/>
                  <a:pt x="4564" y="9004"/>
                </a:cubicBezTo>
                <a:cubicBezTo>
                  <a:pt x="4530" y="9086"/>
                  <a:pt x="4521" y="9182"/>
                  <a:pt x="4539" y="9252"/>
                </a:cubicBezTo>
                <a:cubicBezTo>
                  <a:pt x="4637" y="9185"/>
                  <a:pt x="4781" y="9036"/>
                  <a:pt x="4911" y="9128"/>
                </a:cubicBezTo>
                <a:cubicBezTo>
                  <a:pt x="5144" y="9294"/>
                  <a:pt x="4619" y="9409"/>
                  <a:pt x="4564" y="9426"/>
                </a:cubicBezTo>
              </a:path>
              <a:path w="1837" h="2110">
                <a:moveTo>
                  <a:pt x="3200" y="7342"/>
                </a:moveTo>
                <a:cubicBezTo>
                  <a:pt x="3210" y="7503"/>
                  <a:pt x="3246" y="7654"/>
                  <a:pt x="3274" y="7813"/>
                </a:cubicBezTo>
                <a:cubicBezTo>
                  <a:pt x="3280" y="7845"/>
                  <a:pt x="3274" y="7881"/>
                  <a:pt x="3274" y="79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55800" y="4527720"/>
            <a:ext cx="1339560" cy="965160"/>
          </a:xfrm>
          <a:custGeom>
            <a:avLst/>
            <a:gdLst/>
            <a:ahLst/>
            <a:rect l="l" t="t" r="r" b="b"/>
            <a:pathLst>
              <a:path w="3722" h="2680">
                <a:moveTo>
                  <a:pt x="5011" y="12998"/>
                </a:moveTo>
                <a:cubicBezTo>
                  <a:pt x="4980" y="13179"/>
                  <a:pt x="5011" y="13397"/>
                  <a:pt x="5011" y="13593"/>
                </a:cubicBezTo>
              </a:path>
              <a:path w="3722" h="2680">
                <a:moveTo>
                  <a:pt x="4614" y="13990"/>
                </a:moveTo>
                <a:cubicBezTo>
                  <a:pt x="4815" y="13977"/>
                  <a:pt x="5009" y="13932"/>
                  <a:pt x="5209" y="13915"/>
                </a:cubicBezTo>
              </a:path>
              <a:path w="3722" h="2680">
                <a:moveTo>
                  <a:pt x="5060" y="14139"/>
                </a:moveTo>
                <a:cubicBezTo>
                  <a:pt x="4900" y="14254"/>
                  <a:pt x="4855" y="14240"/>
                  <a:pt x="4837" y="14436"/>
                </a:cubicBezTo>
                <a:cubicBezTo>
                  <a:pt x="4837" y="14461"/>
                  <a:pt x="4837" y="14486"/>
                  <a:pt x="4837" y="14511"/>
                </a:cubicBezTo>
                <a:cubicBezTo>
                  <a:pt x="4954" y="14501"/>
                  <a:pt x="5080" y="14432"/>
                  <a:pt x="5159" y="14560"/>
                </a:cubicBezTo>
                <a:cubicBezTo>
                  <a:pt x="5266" y="14733"/>
                  <a:pt x="5042" y="14833"/>
                  <a:pt x="4911" y="14858"/>
                </a:cubicBezTo>
                <a:cubicBezTo>
                  <a:pt x="4886" y="14858"/>
                  <a:pt x="4862" y="14858"/>
                  <a:pt x="4837" y="14858"/>
                </a:cubicBezTo>
              </a:path>
              <a:path w="3722" h="2680">
                <a:moveTo>
                  <a:pt x="3274" y="13519"/>
                </a:moveTo>
                <a:cubicBezTo>
                  <a:pt x="3438" y="13635"/>
                  <a:pt x="3393" y="14055"/>
                  <a:pt x="3398" y="14263"/>
                </a:cubicBezTo>
                <a:cubicBezTo>
                  <a:pt x="3398" y="14304"/>
                  <a:pt x="3398" y="14346"/>
                  <a:pt x="3398" y="14387"/>
                </a:cubicBezTo>
              </a:path>
              <a:path w="3722" h="2680">
                <a:moveTo>
                  <a:pt x="3746" y="13568"/>
                </a:moveTo>
                <a:cubicBezTo>
                  <a:pt x="3725" y="13820"/>
                  <a:pt x="3742" y="14059"/>
                  <a:pt x="3746" y="14312"/>
                </a:cubicBezTo>
                <a:cubicBezTo>
                  <a:pt x="3746" y="14390"/>
                  <a:pt x="3730" y="14408"/>
                  <a:pt x="3770" y="14436"/>
                </a:cubicBezTo>
              </a:path>
              <a:path w="3722" h="2680">
                <a:moveTo>
                  <a:pt x="3150" y="14932"/>
                </a:moveTo>
                <a:cubicBezTo>
                  <a:pt x="3315" y="14969"/>
                  <a:pt x="3457" y="15024"/>
                  <a:pt x="3621" y="15081"/>
                </a:cubicBezTo>
                <a:cubicBezTo>
                  <a:pt x="3966" y="15201"/>
                  <a:pt x="4324" y="15248"/>
                  <a:pt x="4688" y="15255"/>
                </a:cubicBezTo>
                <a:cubicBezTo>
                  <a:pt x="5158" y="15264"/>
                  <a:pt x="5678" y="15154"/>
                  <a:pt x="6003" y="14784"/>
                </a:cubicBezTo>
                <a:cubicBezTo>
                  <a:pt x="6201" y="14559"/>
                  <a:pt x="6350" y="14288"/>
                  <a:pt x="6375" y="13990"/>
                </a:cubicBezTo>
                <a:cubicBezTo>
                  <a:pt x="6403" y="13653"/>
                  <a:pt x="6326" y="13277"/>
                  <a:pt x="6127" y="12998"/>
                </a:cubicBezTo>
                <a:cubicBezTo>
                  <a:pt x="6038" y="12873"/>
                  <a:pt x="5867" y="12764"/>
                  <a:pt x="5730" y="12700"/>
                </a:cubicBezTo>
                <a:cubicBezTo>
                  <a:pt x="5587" y="12633"/>
                  <a:pt x="5458" y="12623"/>
                  <a:pt x="5308" y="12601"/>
                </a:cubicBezTo>
                <a:cubicBezTo>
                  <a:pt x="5121" y="12573"/>
                  <a:pt x="4904" y="12583"/>
                  <a:pt x="4713" y="12601"/>
                </a:cubicBezTo>
                <a:cubicBezTo>
                  <a:pt x="4392" y="12630"/>
                  <a:pt x="4054" y="12679"/>
                  <a:pt x="3746" y="12774"/>
                </a:cubicBezTo>
                <a:cubicBezTo>
                  <a:pt x="3592" y="12822"/>
                  <a:pt x="3449" y="12890"/>
                  <a:pt x="3299" y="12948"/>
                </a:cubicBezTo>
                <a:cubicBezTo>
                  <a:pt x="3105" y="13023"/>
                  <a:pt x="2921" y="13138"/>
                  <a:pt x="2778" y="13295"/>
                </a:cubicBezTo>
                <a:cubicBezTo>
                  <a:pt x="2659" y="13426"/>
                  <a:pt x="2676" y="13487"/>
                  <a:pt x="2679" y="13643"/>
                </a:cubicBezTo>
                <a:cubicBezTo>
                  <a:pt x="2683" y="13837"/>
                  <a:pt x="2700" y="14026"/>
                  <a:pt x="2753" y="14213"/>
                </a:cubicBezTo>
                <a:cubicBezTo>
                  <a:pt x="2819" y="14444"/>
                  <a:pt x="2895" y="14611"/>
                  <a:pt x="3101" y="14734"/>
                </a:cubicBezTo>
                <a:cubicBezTo>
                  <a:pt x="3215" y="14802"/>
                  <a:pt x="3336" y="14870"/>
                  <a:pt x="3448" y="14932"/>
                </a:cubicBezTo>
                <a:cubicBezTo>
                  <a:pt x="3464" y="14940"/>
                  <a:pt x="3481" y="14949"/>
                  <a:pt x="3497" y="149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60240" y="3125880"/>
            <a:ext cx="3546720" cy="1535040"/>
          </a:xfrm>
          <a:custGeom>
            <a:avLst/>
            <a:gdLst/>
            <a:ahLst/>
            <a:rect l="l" t="t" r="r" b="b"/>
            <a:pathLst>
              <a:path w="9848" h="4267">
                <a:moveTo>
                  <a:pt x="2009" y="11733"/>
                </a:moveTo>
                <a:cubicBezTo>
                  <a:pt x="2066" y="11916"/>
                  <a:pt x="2095" y="12064"/>
                  <a:pt x="2108" y="12254"/>
                </a:cubicBezTo>
              </a:path>
              <a:path w="9848" h="4267">
                <a:moveTo>
                  <a:pt x="1960" y="11931"/>
                </a:moveTo>
                <a:cubicBezTo>
                  <a:pt x="2150" y="11880"/>
                  <a:pt x="2336" y="11839"/>
                  <a:pt x="2530" y="11807"/>
                </a:cubicBezTo>
              </a:path>
              <a:path w="9848" h="4267">
                <a:moveTo>
                  <a:pt x="2927" y="11336"/>
                </a:moveTo>
                <a:cubicBezTo>
                  <a:pt x="3092" y="11308"/>
                  <a:pt x="3257" y="11286"/>
                  <a:pt x="3423" y="11261"/>
                </a:cubicBezTo>
                <a:cubicBezTo>
                  <a:pt x="3524" y="11492"/>
                  <a:pt x="3482" y="11705"/>
                  <a:pt x="3448" y="11956"/>
                </a:cubicBezTo>
                <a:cubicBezTo>
                  <a:pt x="3440" y="12006"/>
                  <a:pt x="3431" y="12055"/>
                  <a:pt x="3423" y="12105"/>
                </a:cubicBezTo>
              </a:path>
              <a:path w="9848" h="4267">
                <a:moveTo>
                  <a:pt x="4539" y="10765"/>
                </a:moveTo>
                <a:cubicBezTo>
                  <a:pt x="4516" y="10880"/>
                  <a:pt x="4507" y="10912"/>
                  <a:pt x="4514" y="10988"/>
                </a:cubicBezTo>
                <a:cubicBezTo>
                  <a:pt x="4634" y="11028"/>
                  <a:pt x="4672" y="11002"/>
                  <a:pt x="4787" y="10964"/>
                </a:cubicBezTo>
              </a:path>
              <a:path w="9848" h="4267">
                <a:moveTo>
                  <a:pt x="4837" y="10517"/>
                </a:moveTo>
                <a:cubicBezTo>
                  <a:pt x="4831" y="10741"/>
                  <a:pt x="4818" y="10963"/>
                  <a:pt x="4812" y="11187"/>
                </a:cubicBezTo>
              </a:path>
              <a:path w="9848" h="4267">
                <a:moveTo>
                  <a:pt x="4366" y="11460"/>
                </a:moveTo>
                <a:cubicBezTo>
                  <a:pt x="4666" y="11414"/>
                  <a:pt x="4960" y="11346"/>
                  <a:pt x="5259" y="11286"/>
                </a:cubicBezTo>
              </a:path>
              <a:path w="9848" h="4267">
                <a:moveTo>
                  <a:pt x="4911" y="11633"/>
                </a:moveTo>
                <a:cubicBezTo>
                  <a:pt x="4750" y="11647"/>
                  <a:pt x="4724" y="11679"/>
                  <a:pt x="4688" y="11857"/>
                </a:cubicBezTo>
                <a:cubicBezTo>
                  <a:pt x="4688" y="11882"/>
                  <a:pt x="4688" y="11906"/>
                  <a:pt x="4688" y="11931"/>
                </a:cubicBezTo>
                <a:cubicBezTo>
                  <a:pt x="4864" y="11824"/>
                  <a:pt x="4975" y="11750"/>
                  <a:pt x="5135" y="11857"/>
                </a:cubicBezTo>
                <a:cubicBezTo>
                  <a:pt x="5022" y="12094"/>
                  <a:pt x="4904" y="12108"/>
                  <a:pt x="4638" y="12129"/>
                </a:cubicBezTo>
              </a:path>
              <a:path w="9848" h="4267">
                <a:moveTo>
                  <a:pt x="1836" y="12948"/>
                </a:moveTo>
                <a:cubicBezTo>
                  <a:pt x="2388" y="12907"/>
                  <a:pt x="2944" y="12825"/>
                  <a:pt x="3497" y="12774"/>
                </a:cubicBezTo>
                <a:cubicBezTo>
                  <a:pt x="4257" y="12704"/>
                  <a:pt x="5016" y="12620"/>
                  <a:pt x="5779" y="12601"/>
                </a:cubicBezTo>
              </a:path>
              <a:path w="9848" h="4267">
                <a:moveTo>
                  <a:pt x="5854" y="10120"/>
                </a:moveTo>
                <a:cubicBezTo>
                  <a:pt x="5972" y="10112"/>
                  <a:pt x="6085" y="10083"/>
                  <a:pt x="6201" y="10071"/>
                </a:cubicBezTo>
              </a:path>
              <a:path w="9848" h="4267">
                <a:moveTo>
                  <a:pt x="6052" y="10344"/>
                </a:moveTo>
                <a:cubicBezTo>
                  <a:pt x="6166" y="10289"/>
                  <a:pt x="6254" y="10242"/>
                  <a:pt x="6375" y="10220"/>
                </a:cubicBezTo>
              </a:path>
              <a:path w="9848" h="4267">
                <a:moveTo>
                  <a:pt x="6896" y="9971"/>
                </a:moveTo>
                <a:cubicBezTo>
                  <a:pt x="7108" y="9958"/>
                  <a:pt x="7334" y="9922"/>
                  <a:pt x="7541" y="9872"/>
                </a:cubicBezTo>
                <a:cubicBezTo>
                  <a:pt x="7672" y="9829"/>
                  <a:pt x="7705" y="9816"/>
                  <a:pt x="7789" y="9798"/>
                </a:cubicBezTo>
              </a:path>
              <a:path w="9848" h="4267">
                <a:moveTo>
                  <a:pt x="7491" y="10344"/>
                </a:moveTo>
                <a:cubicBezTo>
                  <a:pt x="7420" y="10357"/>
                  <a:pt x="7209" y="10336"/>
                  <a:pt x="7193" y="10418"/>
                </a:cubicBezTo>
                <a:cubicBezTo>
                  <a:pt x="7175" y="10508"/>
                  <a:pt x="7204" y="10560"/>
                  <a:pt x="7218" y="10641"/>
                </a:cubicBezTo>
                <a:cubicBezTo>
                  <a:pt x="7371" y="10573"/>
                  <a:pt x="7374" y="10540"/>
                  <a:pt x="7516" y="10616"/>
                </a:cubicBezTo>
                <a:cubicBezTo>
                  <a:pt x="7455" y="10892"/>
                  <a:pt x="7337" y="10922"/>
                  <a:pt x="7069" y="10964"/>
                </a:cubicBezTo>
              </a:path>
              <a:path w="9848" h="4267">
                <a:moveTo>
                  <a:pt x="6921" y="9079"/>
                </a:moveTo>
                <a:cubicBezTo>
                  <a:pt x="6913" y="9220"/>
                  <a:pt x="6902" y="9341"/>
                  <a:pt x="6921" y="9475"/>
                </a:cubicBezTo>
                <a:cubicBezTo>
                  <a:pt x="6944" y="9633"/>
                  <a:pt x="7103" y="9467"/>
                  <a:pt x="7169" y="9426"/>
                </a:cubicBezTo>
                <a:cubicBezTo>
                  <a:pt x="7251" y="9375"/>
                  <a:pt x="7281" y="9347"/>
                  <a:pt x="7293" y="9252"/>
                </a:cubicBezTo>
                <a:cubicBezTo>
                  <a:pt x="7213" y="9230"/>
                  <a:pt x="7136" y="9189"/>
                  <a:pt x="7094" y="9277"/>
                </a:cubicBezTo>
                <a:cubicBezTo>
                  <a:pt x="7041" y="9386"/>
                  <a:pt x="7047" y="9444"/>
                  <a:pt x="7094" y="9550"/>
                </a:cubicBezTo>
              </a:path>
              <a:path w="9848" h="4267">
                <a:moveTo>
                  <a:pt x="8136" y="9947"/>
                </a:moveTo>
                <a:cubicBezTo>
                  <a:pt x="8210" y="9947"/>
                  <a:pt x="8285" y="9947"/>
                  <a:pt x="8359" y="9947"/>
                </a:cubicBezTo>
              </a:path>
              <a:path w="9848" h="4267">
                <a:moveTo>
                  <a:pt x="8235" y="10170"/>
                </a:moveTo>
                <a:cubicBezTo>
                  <a:pt x="8309" y="10170"/>
                  <a:pt x="8384" y="10170"/>
                  <a:pt x="8458" y="10170"/>
                </a:cubicBezTo>
              </a:path>
              <a:path w="9848" h="4267">
                <a:moveTo>
                  <a:pt x="9699" y="9699"/>
                </a:moveTo>
                <a:cubicBezTo>
                  <a:pt x="9648" y="9793"/>
                  <a:pt x="9603" y="9884"/>
                  <a:pt x="9599" y="9996"/>
                </a:cubicBezTo>
                <a:cubicBezTo>
                  <a:pt x="9597" y="10038"/>
                  <a:pt x="9604" y="10222"/>
                  <a:pt x="9649" y="10244"/>
                </a:cubicBezTo>
                <a:cubicBezTo>
                  <a:pt x="9749" y="10292"/>
                  <a:pt x="9891" y="10275"/>
                  <a:pt x="9971" y="10195"/>
                </a:cubicBezTo>
                <a:cubicBezTo>
                  <a:pt x="10035" y="10131"/>
                  <a:pt x="10092" y="10006"/>
                  <a:pt x="9996" y="9947"/>
                </a:cubicBezTo>
                <a:cubicBezTo>
                  <a:pt x="9971" y="9939"/>
                  <a:pt x="9947" y="9930"/>
                  <a:pt x="9922" y="9922"/>
                </a:cubicBezTo>
                <a:cubicBezTo>
                  <a:pt x="9827" y="10027"/>
                  <a:pt x="9770" y="10082"/>
                  <a:pt x="9798" y="10220"/>
                </a:cubicBezTo>
              </a:path>
              <a:path w="9848" h="4267">
                <a:moveTo>
                  <a:pt x="9451" y="10443"/>
                </a:moveTo>
                <a:cubicBezTo>
                  <a:pt x="9464" y="10234"/>
                  <a:pt x="9425" y="10081"/>
                  <a:pt x="9401" y="9872"/>
                </a:cubicBezTo>
                <a:cubicBezTo>
                  <a:pt x="9386" y="9738"/>
                  <a:pt x="9396" y="9608"/>
                  <a:pt x="9376" y="9475"/>
                </a:cubicBezTo>
                <a:cubicBezTo>
                  <a:pt x="9601" y="9475"/>
                  <a:pt x="9822" y="9460"/>
                  <a:pt x="10046" y="9451"/>
                </a:cubicBezTo>
                <a:cubicBezTo>
                  <a:pt x="10195" y="9451"/>
                  <a:pt x="10228" y="9451"/>
                  <a:pt x="10319" y="9451"/>
                </a:cubicBezTo>
              </a:path>
              <a:path w="9848" h="4267">
                <a:moveTo>
                  <a:pt x="9178" y="9699"/>
                </a:moveTo>
                <a:cubicBezTo>
                  <a:pt x="9141" y="9709"/>
                  <a:pt x="8809" y="9743"/>
                  <a:pt x="8806" y="9748"/>
                </a:cubicBezTo>
                <a:cubicBezTo>
                  <a:pt x="8795" y="9769"/>
                  <a:pt x="8855" y="9974"/>
                  <a:pt x="8855" y="10021"/>
                </a:cubicBezTo>
                <a:cubicBezTo>
                  <a:pt x="8988" y="9955"/>
                  <a:pt x="9134" y="9891"/>
                  <a:pt x="9227" y="10071"/>
                </a:cubicBezTo>
                <a:cubicBezTo>
                  <a:pt x="9338" y="10286"/>
                  <a:pt x="9004" y="10353"/>
                  <a:pt x="8880" y="10344"/>
                </a:cubicBezTo>
                <a:cubicBezTo>
                  <a:pt x="8847" y="10336"/>
                  <a:pt x="8814" y="10327"/>
                  <a:pt x="8781" y="10319"/>
                </a:cubicBezTo>
              </a:path>
              <a:path w="9848" h="4267">
                <a:moveTo>
                  <a:pt x="9599" y="8682"/>
                </a:moveTo>
                <a:cubicBezTo>
                  <a:pt x="9610" y="8892"/>
                  <a:pt x="9649" y="9094"/>
                  <a:pt x="9674" y="9302"/>
                </a:cubicBezTo>
                <a:cubicBezTo>
                  <a:pt x="9674" y="9318"/>
                  <a:pt x="9674" y="9335"/>
                  <a:pt x="9674" y="9351"/>
                </a:cubicBezTo>
              </a:path>
              <a:path w="9848" h="4267">
                <a:moveTo>
                  <a:pt x="9947" y="10517"/>
                </a:moveTo>
                <a:cubicBezTo>
                  <a:pt x="9848" y="10542"/>
                  <a:pt x="9822" y="10542"/>
                  <a:pt x="9723" y="10517"/>
                </a:cubicBezTo>
                <a:cubicBezTo>
                  <a:pt x="9736" y="10642"/>
                  <a:pt x="9704" y="10716"/>
                  <a:pt x="9823" y="10691"/>
                </a:cubicBezTo>
                <a:cubicBezTo>
                  <a:pt x="9921" y="10666"/>
                  <a:pt x="9953" y="10658"/>
                  <a:pt x="10021" y="10666"/>
                </a:cubicBezTo>
                <a:cubicBezTo>
                  <a:pt x="10098" y="10865"/>
                  <a:pt x="10008" y="10884"/>
                  <a:pt x="9823" y="10964"/>
                </a:cubicBezTo>
              </a:path>
              <a:path w="9848" h="4267">
                <a:moveTo>
                  <a:pt x="9599" y="10964"/>
                </a:moveTo>
                <a:cubicBezTo>
                  <a:pt x="9793" y="10940"/>
                  <a:pt x="9953" y="10924"/>
                  <a:pt x="10145" y="10939"/>
                </a:cubicBezTo>
              </a:path>
              <a:path w="9848" h="4267">
                <a:moveTo>
                  <a:pt x="9922" y="11187"/>
                </a:moveTo>
                <a:cubicBezTo>
                  <a:pt x="9915" y="11336"/>
                  <a:pt x="9904" y="11484"/>
                  <a:pt x="9897" y="11633"/>
                </a:cubicBezTo>
              </a:path>
              <a:path w="9848" h="4267">
                <a:moveTo>
                  <a:pt x="10666" y="9971"/>
                </a:moveTo>
                <a:cubicBezTo>
                  <a:pt x="10691" y="9971"/>
                  <a:pt x="10715" y="9971"/>
                  <a:pt x="10740" y="9971"/>
                </a:cubicBezTo>
              </a:path>
              <a:path w="9848" h="4267">
                <a:moveTo>
                  <a:pt x="10542" y="10170"/>
                </a:moveTo>
                <a:cubicBezTo>
                  <a:pt x="10661" y="10146"/>
                  <a:pt x="10697" y="10140"/>
                  <a:pt x="10765" y="10096"/>
                </a:cubicBezTo>
              </a:path>
              <a:path w="9848" h="4267">
                <a:moveTo>
                  <a:pt x="10914" y="9178"/>
                </a:moveTo>
                <a:cubicBezTo>
                  <a:pt x="10987" y="9514"/>
                  <a:pt x="11040" y="9851"/>
                  <a:pt x="11063" y="10195"/>
                </a:cubicBezTo>
                <a:cubicBezTo>
                  <a:pt x="11063" y="10286"/>
                  <a:pt x="11063" y="10294"/>
                  <a:pt x="11063" y="10344"/>
                </a:cubicBezTo>
              </a:path>
              <a:path w="9848" h="4267">
                <a:moveTo>
                  <a:pt x="11385" y="9103"/>
                </a:moveTo>
                <a:cubicBezTo>
                  <a:pt x="11397" y="9262"/>
                  <a:pt x="11410" y="9415"/>
                  <a:pt x="11410" y="9575"/>
                </a:cubicBezTo>
              </a:path>
              <a:path w="9848" h="4267">
                <a:moveTo>
                  <a:pt x="11336" y="9699"/>
                </a:moveTo>
                <a:cubicBezTo>
                  <a:pt x="11452" y="9699"/>
                  <a:pt x="11567" y="9699"/>
                  <a:pt x="11683" y="9699"/>
                </a:cubicBezTo>
              </a:path>
              <a:path w="9848" h="4267">
                <a:moveTo>
                  <a:pt x="11633" y="9922"/>
                </a:moveTo>
                <a:cubicBezTo>
                  <a:pt x="11583" y="9905"/>
                  <a:pt x="11426" y="9854"/>
                  <a:pt x="11385" y="9922"/>
                </a:cubicBezTo>
                <a:cubicBezTo>
                  <a:pt x="11363" y="10012"/>
                  <a:pt x="11355" y="10036"/>
                  <a:pt x="11361" y="10096"/>
                </a:cubicBezTo>
                <a:cubicBezTo>
                  <a:pt x="11456" y="10133"/>
                  <a:pt x="11461" y="10004"/>
                  <a:pt x="11584" y="10046"/>
                </a:cubicBezTo>
                <a:cubicBezTo>
                  <a:pt x="11600" y="10063"/>
                  <a:pt x="11617" y="10079"/>
                  <a:pt x="11633" y="10096"/>
                </a:cubicBezTo>
                <a:cubicBezTo>
                  <a:pt x="11646" y="10246"/>
                  <a:pt x="11582" y="10310"/>
                  <a:pt x="11410" y="10294"/>
                </a:cubicBezTo>
                <a:cubicBezTo>
                  <a:pt x="11385" y="10286"/>
                  <a:pt x="11361" y="10277"/>
                  <a:pt x="11336" y="102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45120" y="2724120"/>
            <a:ext cx="2214720" cy="1150920"/>
          </a:xfrm>
          <a:custGeom>
            <a:avLst/>
            <a:gdLst/>
            <a:ahLst/>
            <a:rect l="l" t="t" r="r" b="b"/>
            <a:pathLst>
              <a:path w="6152" h="3201">
                <a:moveTo>
                  <a:pt x="17363" y="8657"/>
                </a:moveTo>
                <a:cubicBezTo>
                  <a:pt x="17155" y="8718"/>
                  <a:pt x="16905" y="8825"/>
                  <a:pt x="16793" y="9029"/>
                </a:cubicBezTo>
                <a:cubicBezTo>
                  <a:pt x="16682" y="9232"/>
                  <a:pt x="17145" y="9330"/>
                  <a:pt x="17016" y="9550"/>
                </a:cubicBezTo>
                <a:cubicBezTo>
                  <a:pt x="16975" y="9575"/>
                  <a:pt x="16933" y="9599"/>
                  <a:pt x="16892" y="9624"/>
                </a:cubicBezTo>
                <a:cubicBezTo>
                  <a:pt x="16791" y="9443"/>
                  <a:pt x="17034" y="9145"/>
                  <a:pt x="17140" y="8954"/>
                </a:cubicBezTo>
                <a:cubicBezTo>
                  <a:pt x="17199" y="8856"/>
                  <a:pt x="17250" y="8828"/>
                  <a:pt x="17165" y="8806"/>
                </a:cubicBezTo>
              </a:path>
              <a:path w="6152" h="3201">
                <a:moveTo>
                  <a:pt x="18058" y="7987"/>
                </a:moveTo>
                <a:cubicBezTo>
                  <a:pt x="18058" y="8103"/>
                  <a:pt x="18058" y="8218"/>
                  <a:pt x="18058" y="8334"/>
                </a:cubicBezTo>
              </a:path>
              <a:path w="6152" h="3201">
                <a:moveTo>
                  <a:pt x="17686" y="8806"/>
                </a:moveTo>
                <a:cubicBezTo>
                  <a:pt x="17885" y="8763"/>
                  <a:pt x="18143" y="8666"/>
                  <a:pt x="18331" y="8706"/>
                </a:cubicBezTo>
              </a:path>
              <a:path w="6152" h="3201">
                <a:moveTo>
                  <a:pt x="17735" y="9054"/>
                </a:moveTo>
                <a:cubicBezTo>
                  <a:pt x="17773" y="9045"/>
                  <a:pt x="18267" y="8929"/>
                  <a:pt x="18107" y="9153"/>
                </a:cubicBezTo>
                <a:cubicBezTo>
                  <a:pt x="17971" y="9267"/>
                  <a:pt x="17936" y="9300"/>
                  <a:pt x="17835" y="9351"/>
                </a:cubicBezTo>
                <a:cubicBezTo>
                  <a:pt x="17851" y="9335"/>
                  <a:pt x="17868" y="9318"/>
                  <a:pt x="17884" y="9302"/>
                </a:cubicBezTo>
                <a:cubicBezTo>
                  <a:pt x="18082" y="9302"/>
                  <a:pt x="18184" y="9442"/>
                  <a:pt x="17959" y="9599"/>
                </a:cubicBezTo>
                <a:cubicBezTo>
                  <a:pt x="17818" y="9697"/>
                  <a:pt x="17737" y="9660"/>
                  <a:pt x="17661" y="9575"/>
                </a:cubicBezTo>
              </a:path>
              <a:path w="6152" h="3201">
                <a:moveTo>
                  <a:pt x="19422" y="8830"/>
                </a:moveTo>
                <a:cubicBezTo>
                  <a:pt x="19508" y="8810"/>
                  <a:pt x="19596" y="8793"/>
                  <a:pt x="19670" y="8756"/>
                </a:cubicBezTo>
              </a:path>
              <a:path w="6152" h="3201">
                <a:moveTo>
                  <a:pt x="19472" y="8979"/>
                </a:moveTo>
                <a:cubicBezTo>
                  <a:pt x="19539" y="8979"/>
                  <a:pt x="19573" y="8975"/>
                  <a:pt x="19621" y="8954"/>
                </a:cubicBezTo>
              </a:path>
              <a:path w="6152" h="3201">
                <a:moveTo>
                  <a:pt x="20117" y="8930"/>
                </a:moveTo>
                <a:cubicBezTo>
                  <a:pt x="20117" y="9099"/>
                  <a:pt x="20123" y="9286"/>
                  <a:pt x="20092" y="9451"/>
                </a:cubicBezTo>
                <a:cubicBezTo>
                  <a:pt x="20084" y="9467"/>
                  <a:pt x="20075" y="9484"/>
                  <a:pt x="20067" y="9500"/>
                </a:cubicBezTo>
              </a:path>
              <a:path w="6152" h="3201">
                <a:moveTo>
                  <a:pt x="20340" y="9004"/>
                </a:moveTo>
                <a:cubicBezTo>
                  <a:pt x="20461" y="8985"/>
                  <a:pt x="20656" y="8921"/>
                  <a:pt x="20613" y="9128"/>
                </a:cubicBezTo>
                <a:cubicBezTo>
                  <a:pt x="20587" y="9254"/>
                  <a:pt x="20488" y="9352"/>
                  <a:pt x="20414" y="9451"/>
                </a:cubicBezTo>
                <a:cubicBezTo>
                  <a:pt x="20521" y="9433"/>
                  <a:pt x="20629" y="9402"/>
                  <a:pt x="20737" y="9376"/>
                </a:cubicBezTo>
              </a:path>
              <a:path w="6152" h="3201">
                <a:moveTo>
                  <a:pt x="20042" y="8806"/>
                </a:moveTo>
                <a:cubicBezTo>
                  <a:pt x="20287" y="8750"/>
                  <a:pt x="20536" y="8701"/>
                  <a:pt x="20786" y="8682"/>
                </a:cubicBezTo>
                <a:cubicBezTo>
                  <a:pt x="20794" y="8682"/>
                  <a:pt x="20803" y="8682"/>
                  <a:pt x="20811" y="8682"/>
                </a:cubicBezTo>
              </a:path>
              <a:path w="6152" h="3201">
                <a:moveTo>
                  <a:pt x="18430" y="8731"/>
                </a:moveTo>
                <a:cubicBezTo>
                  <a:pt x="18498" y="8830"/>
                  <a:pt x="18550" y="8922"/>
                  <a:pt x="18604" y="9029"/>
                </a:cubicBezTo>
              </a:path>
              <a:path w="6152" h="3201">
                <a:moveTo>
                  <a:pt x="18628" y="8682"/>
                </a:moveTo>
                <a:cubicBezTo>
                  <a:pt x="18604" y="8722"/>
                  <a:pt x="18459" y="9054"/>
                  <a:pt x="18430" y="9054"/>
                </a:cubicBezTo>
                <a:cubicBezTo>
                  <a:pt x="18430" y="9037"/>
                  <a:pt x="18430" y="9021"/>
                  <a:pt x="18430" y="9004"/>
                </a:cubicBezTo>
              </a:path>
              <a:path w="6152" h="3201">
                <a:moveTo>
                  <a:pt x="19000" y="8830"/>
                </a:moveTo>
                <a:cubicBezTo>
                  <a:pt x="18952" y="8927"/>
                  <a:pt x="18937" y="8958"/>
                  <a:pt x="18926" y="9029"/>
                </a:cubicBezTo>
                <a:cubicBezTo>
                  <a:pt x="19051" y="9023"/>
                  <a:pt x="19112" y="9024"/>
                  <a:pt x="19224" y="8979"/>
                </a:cubicBezTo>
              </a:path>
              <a:path w="6152" h="3201">
                <a:moveTo>
                  <a:pt x="19174" y="8756"/>
                </a:moveTo>
                <a:cubicBezTo>
                  <a:pt x="19160" y="8939"/>
                  <a:pt x="19118" y="9119"/>
                  <a:pt x="19100" y="9302"/>
                </a:cubicBezTo>
                <a:cubicBezTo>
                  <a:pt x="19100" y="9327"/>
                  <a:pt x="19100" y="9351"/>
                  <a:pt x="19100" y="9376"/>
                </a:cubicBezTo>
              </a:path>
              <a:path w="6152" h="3201">
                <a:moveTo>
                  <a:pt x="18951" y="8781"/>
                </a:moveTo>
                <a:cubicBezTo>
                  <a:pt x="19043" y="8670"/>
                  <a:pt x="19152" y="8667"/>
                  <a:pt x="19298" y="8657"/>
                </a:cubicBezTo>
              </a:path>
              <a:path w="6152" h="3201">
                <a:moveTo>
                  <a:pt x="18951" y="8161"/>
                </a:moveTo>
                <a:cubicBezTo>
                  <a:pt x="18890" y="8242"/>
                  <a:pt x="18875" y="8254"/>
                  <a:pt x="18852" y="8310"/>
                </a:cubicBezTo>
                <a:cubicBezTo>
                  <a:pt x="18956" y="8310"/>
                  <a:pt x="18964" y="8297"/>
                  <a:pt x="19075" y="8260"/>
                </a:cubicBezTo>
              </a:path>
              <a:path w="6152" h="3201">
                <a:moveTo>
                  <a:pt x="19100" y="8012"/>
                </a:moveTo>
                <a:cubicBezTo>
                  <a:pt x="19070" y="8168"/>
                  <a:pt x="19082" y="8327"/>
                  <a:pt x="19050" y="8483"/>
                </a:cubicBezTo>
              </a:path>
              <a:path w="6152" h="3201">
                <a:moveTo>
                  <a:pt x="20067" y="7888"/>
                </a:moveTo>
                <a:cubicBezTo>
                  <a:pt x="20067" y="7995"/>
                  <a:pt x="20031" y="8137"/>
                  <a:pt x="20042" y="8210"/>
                </a:cubicBezTo>
                <a:cubicBezTo>
                  <a:pt x="20168" y="8159"/>
                  <a:pt x="20278" y="8126"/>
                  <a:pt x="20414" y="8111"/>
                </a:cubicBezTo>
              </a:path>
              <a:path w="6152" h="3201">
                <a:moveTo>
                  <a:pt x="20389" y="7565"/>
                </a:moveTo>
                <a:cubicBezTo>
                  <a:pt x="20348" y="7913"/>
                  <a:pt x="20321" y="8257"/>
                  <a:pt x="20315" y="8607"/>
                </a:cubicBezTo>
                <a:cubicBezTo>
                  <a:pt x="20315" y="8640"/>
                  <a:pt x="20315" y="8673"/>
                  <a:pt x="20315" y="8706"/>
                </a:cubicBezTo>
              </a:path>
              <a:path w="6152" h="3201">
                <a:moveTo>
                  <a:pt x="17760" y="7962"/>
                </a:moveTo>
                <a:cubicBezTo>
                  <a:pt x="17872" y="8024"/>
                  <a:pt x="17942" y="8095"/>
                  <a:pt x="18033" y="8186"/>
                </a:cubicBezTo>
                <a:cubicBezTo>
                  <a:pt x="18203" y="8356"/>
                  <a:pt x="18437" y="8485"/>
                  <a:pt x="18579" y="8682"/>
                </a:cubicBezTo>
                <a:cubicBezTo>
                  <a:pt x="18668" y="8806"/>
                  <a:pt x="18758" y="8853"/>
                  <a:pt x="18876" y="8954"/>
                </a:cubicBezTo>
                <a:cubicBezTo>
                  <a:pt x="18990" y="9052"/>
                  <a:pt x="19073" y="9190"/>
                  <a:pt x="19174" y="9302"/>
                </a:cubicBezTo>
                <a:cubicBezTo>
                  <a:pt x="19232" y="9360"/>
                  <a:pt x="19240" y="9368"/>
                  <a:pt x="19273" y="9401"/>
                </a:cubicBezTo>
              </a:path>
              <a:path w="6152" h="3201">
                <a:moveTo>
                  <a:pt x="17562" y="9649"/>
                </a:moveTo>
                <a:cubicBezTo>
                  <a:pt x="17651" y="9589"/>
                  <a:pt x="17740" y="9510"/>
                  <a:pt x="17810" y="9426"/>
                </a:cubicBezTo>
                <a:cubicBezTo>
                  <a:pt x="17923" y="9292"/>
                  <a:pt x="18071" y="9171"/>
                  <a:pt x="18207" y="9054"/>
                </a:cubicBezTo>
                <a:cubicBezTo>
                  <a:pt x="18308" y="8967"/>
                  <a:pt x="18425" y="8887"/>
                  <a:pt x="18529" y="8806"/>
                </a:cubicBezTo>
                <a:cubicBezTo>
                  <a:pt x="18623" y="8733"/>
                  <a:pt x="18662" y="8640"/>
                  <a:pt x="18752" y="8558"/>
                </a:cubicBezTo>
                <a:cubicBezTo>
                  <a:pt x="18825" y="8492"/>
                  <a:pt x="18900" y="8383"/>
                  <a:pt x="18951" y="8334"/>
                </a:cubicBezTo>
                <a:cubicBezTo>
                  <a:pt x="19018" y="8270"/>
                  <a:pt x="19107" y="8189"/>
                  <a:pt x="19174" y="8136"/>
                </a:cubicBezTo>
                <a:cubicBezTo>
                  <a:pt x="19235" y="8088"/>
                  <a:pt x="19277" y="8076"/>
                  <a:pt x="19323" y="8012"/>
                </a:cubicBezTo>
              </a:path>
              <a:path w="6152" h="3201">
                <a:moveTo>
                  <a:pt x="20836" y="10170"/>
                </a:moveTo>
                <a:cubicBezTo>
                  <a:pt x="20915" y="10154"/>
                  <a:pt x="20985" y="10145"/>
                  <a:pt x="21059" y="10120"/>
                </a:cubicBezTo>
              </a:path>
              <a:path w="6152" h="3201">
                <a:moveTo>
                  <a:pt x="20886" y="10368"/>
                </a:moveTo>
                <a:cubicBezTo>
                  <a:pt x="20985" y="10344"/>
                  <a:pt x="21018" y="10336"/>
                  <a:pt x="21084" y="10319"/>
                </a:cubicBezTo>
              </a:path>
              <a:path w="6152" h="3201">
                <a:moveTo>
                  <a:pt x="22399" y="9103"/>
                </a:moveTo>
                <a:cubicBezTo>
                  <a:pt x="22363" y="9308"/>
                  <a:pt x="22349" y="9489"/>
                  <a:pt x="22349" y="9699"/>
                </a:cubicBezTo>
              </a:path>
              <a:path w="6152" h="3201">
                <a:moveTo>
                  <a:pt x="22671" y="9004"/>
                </a:moveTo>
                <a:cubicBezTo>
                  <a:pt x="22706" y="9255"/>
                  <a:pt x="22662" y="9474"/>
                  <a:pt x="22647" y="9723"/>
                </a:cubicBezTo>
                <a:cubicBezTo>
                  <a:pt x="22647" y="9731"/>
                  <a:pt x="22647" y="9740"/>
                  <a:pt x="22647" y="9748"/>
                </a:cubicBezTo>
              </a:path>
              <a:path w="6152" h="3201">
                <a:moveTo>
                  <a:pt x="21853" y="10021"/>
                </a:moveTo>
                <a:cubicBezTo>
                  <a:pt x="22186" y="9957"/>
                  <a:pt x="22516" y="9879"/>
                  <a:pt x="22845" y="9798"/>
                </a:cubicBezTo>
                <a:cubicBezTo>
                  <a:pt x="22878" y="9790"/>
                  <a:pt x="22911" y="9781"/>
                  <a:pt x="22944" y="9773"/>
                </a:cubicBezTo>
              </a:path>
              <a:path w="6152" h="3201">
                <a:moveTo>
                  <a:pt x="22250" y="10145"/>
                </a:moveTo>
                <a:cubicBezTo>
                  <a:pt x="22250" y="10359"/>
                  <a:pt x="22237" y="10555"/>
                  <a:pt x="22200" y="10765"/>
                </a:cubicBezTo>
              </a:path>
              <a:path w="6152" h="3201">
                <a:moveTo>
                  <a:pt x="22473" y="10220"/>
                </a:moveTo>
                <a:cubicBezTo>
                  <a:pt x="22547" y="10127"/>
                  <a:pt x="22563" y="10130"/>
                  <a:pt x="22696" y="10120"/>
                </a:cubicBezTo>
                <a:cubicBezTo>
                  <a:pt x="22719" y="10314"/>
                  <a:pt x="22659" y="10462"/>
                  <a:pt x="22523" y="10616"/>
                </a:cubicBezTo>
                <a:cubicBezTo>
                  <a:pt x="22479" y="10638"/>
                  <a:pt x="22458" y="10641"/>
                  <a:pt x="22498" y="10666"/>
                </a:cubicBezTo>
                <a:cubicBezTo>
                  <a:pt x="22630" y="10622"/>
                  <a:pt x="22749" y="10582"/>
                  <a:pt x="22870" y="105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29160" y="4152960"/>
            <a:ext cx="304920" cy="196920"/>
          </a:xfrm>
          <a:custGeom>
            <a:avLst/>
            <a:gdLst/>
            <a:ahLst/>
            <a:rect l="l" t="t" r="r" b="b"/>
            <a:pathLst>
              <a:path w="845" h="547">
                <a:moveTo>
                  <a:pt x="15429" y="11534"/>
                </a:moveTo>
                <a:cubicBezTo>
                  <a:pt x="15429" y="11716"/>
                  <a:pt x="15429" y="11898"/>
                  <a:pt x="15429" y="12080"/>
                </a:cubicBezTo>
              </a:path>
              <a:path w="845" h="547">
                <a:moveTo>
                  <a:pt x="15528" y="11733"/>
                </a:moveTo>
                <a:cubicBezTo>
                  <a:pt x="15743" y="11690"/>
                  <a:pt x="15792" y="11679"/>
                  <a:pt x="15925" y="11658"/>
                </a:cubicBezTo>
              </a:path>
              <a:path w="845" h="547">
                <a:moveTo>
                  <a:pt x="15081" y="11881"/>
                </a:moveTo>
                <a:cubicBezTo>
                  <a:pt x="15177" y="11869"/>
                  <a:pt x="15315" y="11844"/>
                  <a:pt x="15404" y="11807"/>
                </a:cubicBezTo>
                <a:cubicBezTo>
                  <a:pt x="15483" y="11774"/>
                  <a:pt x="15514" y="11742"/>
                  <a:pt x="15602" y="117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91120" y="4017960"/>
            <a:ext cx="206640" cy="331920"/>
          </a:xfrm>
          <a:custGeom>
            <a:avLst/>
            <a:gdLst/>
            <a:ahLst/>
            <a:rect l="l" t="t" r="r" b="b"/>
            <a:pathLst>
              <a:path w="571" h="919">
                <a:moveTo>
                  <a:pt x="16892" y="11237"/>
                </a:moveTo>
                <a:cubicBezTo>
                  <a:pt x="16983" y="11175"/>
                  <a:pt x="17028" y="11155"/>
                  <a:pt x="17115" y="11162"/>
                </a:cubicBezTo>
                <a:cubicBezTo>
                  <a:pt x="17255" y="11427"/>
                  <a:pt x="17120" y="11535"/>
                  <a:pt x="16892" y="11733"/>
                </a:cubicBezTo>
                <a:cubicBezTo>
                  <a:pt x="17054" y="11673"/>
                  <a:pt x="17404" y="11661"/>
                  <a:pt x="17140" y="11931"/>
                </a:cubicBezTo>
                <a:cubicBezTo>
                  <a:pt x="16991" y="12083"/>
                  <a:pt x="16814" y="12063"/>
                  <a:pt x="16644" y="120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46880" y="3813120"/>
            <a:ext cx="287280" cy="660600"/>
          </a:xfrm>
          <a:custGeom>
            <a:avLst/>
            <a:gdLst/>
            <a:ahLst/>
            <a:rect l="l" t="t" r="r" b="b"/>
            <a:pathLst>
              <a:path w="795" h="1836">
                <a:moveTo>
                  <a:pt x="18083" y="10666"/>
                </a:moveTo>
                <a:cubicBezTo>
                  <a:pt x="18172" y="10621"/>
                  <a:pt x="18229" y="10601"/>
                  <a:pt x="18331" y="10592"/>
                </a:cubicBezTo>
                <a:cubicBezTo>
                  <a:pt x="18307" y="10764"/>
                  <a:pt x="18255" y="10902"/>
                  <a:pt x="18182" y="11063"/>
                </a:cubicBezTo>
              </a:path>
              <a:path w="795" h="1836">
                <a:moveTo>
                  <a:pt x="17909" y="11410"/>
                </a:moveTo>
                <a:cubicBezTo>
                  <a:pt x="18158" y="11337"/>
                  <a:pt x="18463" y="11214"/>
                  <a:pt x="18703" y="11237"/>
                </a:cubicBezTo>
              </a:path>
              <a:path w="795" h="1836">
                <a:moveTo>
                  <a:pt x="18058" y="11956"/>
                </a:moveTo>
                <a:cubicBezTo>
                  <a:pt x="18049" y="12118"/>
                  <a:pt x="18035" y="12274"/>
                  <a:pt x="17983" y="12427"/>
                </a:cubicBezTo>
              </a:path>
              <a:path w="795" h="1836">
                <a:moveTo>
                  <a:pt x="18355" y="11857"/>
                </a:moveTo>
                <a:cubicBezTo>
                  <a:pt x="18440" y="11849"/>
                  <a:pt x="18518" y="11837"/>
                  <a:pt x="18604" y="11832"/>
                </a:cubicBezTo>
                <a:cubicBezTo>
                  <a:pt x="18699" y="12023"/>
                  <a:pt x="18654" y="12233"/>
                  <a:pt x="18405" y="12328"/>
                </a:cubicBezTo>
                <a:cubicBezTo>
                  <a:pt x="18364" y="12328"/>
                  <a:pt x="18322" y="12328"/>
                  <a:pt x="18281" y="12328"/>
                </a:cubicBezTo>
                <a:cubicBezTo>
                  <a:pt x="18357" y="12177"/>
                  <a:pt x="18497" y="12092"/>
                  <a:pt x="18653" y="12254"/>
                </a:cubicBezTo>
                <a:cubicBezTo>
                  <a:pt x="18661" y="12279"/>
                  <a:pt x="18670" y="12303"/>
                  <a:pt x="18678" y="123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626080" y="4491000"/>
            <a:ext cx="1652760" cy="1243080"/>
          </a:xfrm>
          <a:custGeom>
            <a:avLst/>
            <a:gdLst/>
            <a:ahLst/>
            <a:rect l="l" t="t" r="r" b="b"/>
            <a:pathLst>
              <a:path w="4590" h="3449">
                <a:moveTo>
                  <a:pt x="18231" y="13295"/>
                </a:moveTo>
                <a:cubicBezTo>
                  <a:pt x="18167" y="13443"/>
                  <a:pt x="18169" y="13606"/>
                  <a:pt x="18157" y="13767"/>
                </a:cubicBezTo>
                <a:cubicBezTo>
                  <a:pt x="18157" y="13792"/>
                  <a:pt x="18157" y="13816"/>
                  <a:pt x="18157" y="13841"/>
                </a:cubicBezTo>
              </a:path>
              <a:path w="4590" h="3449">
                <a:moveTo>
                  <a:pt x="18604" y="13221"/>
                </a:moveTo>
                <a:cubicBezTo>
                  <a:pt x="18625" y="13427"/>
                  <a:pt x="18617" y="13611"/>
                  <a:pt x="18604" y="13816"/>
                </a:cubicBezTo>
              </a:path>
              <a:path w="4590" h="3449">
                <a:moveTo>
                  <a:pt x="17760" y="14139"/>
                </a:moveTo>
                <a:cubicBezTo>
                  <a:pt x="17780" y="14123"/>
                  <a:pt x="18284" y="14022"/>
                  <a:pt x="18331" y="14015"/>
                </a:cubicBezTo>
                <a:cubicBezTo>
                  <a:pt x="18638" y="13971"/>
                  <a:pt x="18939" y="13949"/>
                  <a:pt x="19248" y="13940"/>
                </a:cubicBezTo>
              </a:path>
              <a:path w="4590" h="3449">
                <a:moveTo>
                  <a:pt x="18157" y="14461"/>
                </a:moveTo>
                <a:cubicBezTo>
                  <a:pt x="18143" y="14657"/>
                  <a:pt x="18100" y="14840"/>
                  <a:pt x="18058" y="15032"/>
                </a:cubicBezTo>
              </a:path>
              <a:path w="4590" h="3449">
                <a:moveTo>
                  <a:pt x="18504" y="14362"/>
                </a:moveTo>
                <a:cubicBezTo>
                  <a:pt x="18613" y="14292"/>
                  <a:pt x="18679" y="14260"/>
                  <a:pt x="18802" y="14238"/>
                </a:cubicBezTo>
                <a:cubicBezTo>
                  <a:pt x="18802" y="14486"/>
                  <a:pt x="18696" y="14693"/>
                  <a:pt x="18554" y="14908"/>
                </a:cubicBezTo>
                <a:cubicBezTo>
                  <a:pt x="18546" y="14916"/>
                  <a:pt x="18537" y="14924"/>
                  <a:pt x="18529" y="14932"/>
                </a:cubicBezTo>
                <a:cubicBezTo>
                  <a:pt x="18663" y="14903"/>
                  <a:pt x="18792" y="14839"/>
                  <a:pt x="18926" y="14784"/>
                </a:cubicBezTo>
              </a:path>
              <a:path w="4590" h="3449">
                <a:moveTo>
                  <a:pt x="16768" y="13717"/>
                </a:moveTo>
                <a:cubicBezTo>
                  <a:pt x="16728" y="13782"/>
                  <a:pt x="16723" y="14451"/>
                  <a:pt x="16694" y="14709"/>
                </a:cubicBezTo>
                <a:cubicBezTo>
                  <a:pt x="16675" y="14860"/>
                  <a:pt x="16645" y="14970"/>
                  <a:pt x="16694" y="14858"/>
                </a:cubicBezTo>
              </a:path>
              <a:path w="4590" h="3449">
                <a:moveTo>
                  <a:pt x="17239" y="13618"/>
                </a:moveTo>
                <a:cubicBezTo>
                  <a:pt x="17292" y="13967"/>
                  <a:pt x="17289" y="14305"/>
                  <a:pt x="17289" y="14660"/>
                </a:cubicBezTo>
                <a:cubicBezTo>
                  <a:pt x="17289" y="14676"/>
                  <a:pt x="17289" y="14693"/>
                  <a:pt x="17289" y="14709"/>
                </a:cubicBezTo>
              </a:path>
              <a:path w="4590" h="3449">
                <a:moveTo>
                  <a:pt x="16222" y="15453"/>
                </a:moveTo>
                <a:cubicBezTo>
                  <a:pt x="16463" y="15606"/>
                  <a:pt x="16734" y="15761"/>
                  <a:pt x="17016" y="15825"/>
                </a:cubicBezTo>
                <a:cubicBezTo>
                  <a:pt x="17673" y="15973"/>
                  <a:pt x="18472" y="15871"/>
                  <a:pt x="19075" y="15577"/>
                </a:cubicBezTo>
                <a:cubicBezTo>
                  <a:pt x="19563" y="15339"/>
                  <a:pt x="19954" y="14927"/>
                  <a:pt x="20141" y="14412"/>
                </a:cubicBezTo>
                <a:cubicBezTo>
                  <a:pt x="20280" y="14027"/>
                  <a:pt x="20181" y="13646"/>
                  <a:pt x="19993" y="13295"/>
                </a:cubicBezTo>
                <a:cubicBezTo>
                  <a:pt x="19798" y="12930"/>
                  <a:pt x="19323" y="12661"/>
                  <a:pt x="18926" y="12576"/>
                </a:cubicBezTo>
                <a:cubicBezTo>
                  <a:pt x="18545" y="12495"/>
                  <a:pt x="18124" y="12465"/>
                  <a:pt x="17735" y="12477"/>
                </a:cubicBezTo>
                <a:cubicBezTo>
                  <a:pt x="17221" y="12493"/>
                  <a:pt x="16726" y="12632"/>
                  <a:pt x="16297" y="12923"/>
                </a:cubicBezTo>
                <a:cubicBezTo>
                  <a:pt x="15830" y="13240"/>
                  <a:pt x="15665" y="13692"/>
                  <a:pt x="15627" y="14238"/>
                </a:cubicBezTo>
                <a:cubicBezTo>
                  <a:pt x="15599" y="14644"/>
                  <a:pt x="15686" y="15116"/>
                  <a:pt x="15925" y="15453"/>
                </a:cubicBezTo>
                <a:cubicBezTo>
                  <a:pt x="16088" y="15682"/>
                  <a:pt x="16310" y="15797"/>
                  <a:pt x="16545" y="159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57880" y="4510080"/>
            <a:ext cx="1812960" cy="81000"/>
          </a:xfrm>
          <a:custGeom>
            <a:avLst/>
            <a:gdLst/>
            <a:ahLst/>
            <a:rect l="l" t="t" r="r" b="b"/>
            <a:pathLst>
              <a:path w="5036" h="225">
                <a:moveTo>
                  <a:pt x="14883" y="12725"/>
                </a:moveTo>
                <a:cubicBezTo>
                  <a:pt x="15445" y="12790"/>
                  <a:pt x="16029" y="12740"/>
                  <a:pt x="16594" y="12725"/>
                </a:cubicBezTo>
                <a:cubicBezTo>
                  <a:pt x="17611" y="12697"/>
                  <a:pt x="18630" y="12649"/>
                  <a:pt x="19645" y="12576"/>
                </a:cubicBezTo>
                <a:cubicBezTo>
                  <a:pt x="19813" y="12557"/>
                  <a:pt x="19837" y="12575"/>
                  <a:pt x="19918" y="125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subtract fractions and mixed numb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ubtract fractions - apply the same rules as addition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first for like denomina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from fractions to the left when subtrac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54480" y="343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066680" y="3886200"/>
                <a:ext cx="99072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4649760" y="3813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572000" y="3886200"/>
                <a:ext cx="9907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2143080" y="4375080"/>
            <a:ext cx="162000" cy="98640"/>
          </a:xfrm>
          <a:custGeom>
            <a:avLst/>
            <a:gdLst/>
            <a:ahLst/>
            <a:rect l="l" t="t" r="r" b="b"/>
            <a:pathLst>
              <a:path w="448" h="274">
                <a:moveTo>
                  <a:pt x="5953" y="12154"/>
                </a:moveTo>
                <a:cubicBezTo>
                  <a:pt x="6061" y="12154"/>
                  <a:pt x="6168" y="12154"/>
                  <a:pt x="6276" y="12154"/>
                </a:cubicBezTo>
              </a:path>
              <a:path w="448" h="274">
                <a:moveTo>
                  <a:pt x="6077" y="12402"/>
                </a:moveTo>
                <a:cubicBezTo>
                  <a:pt x="6189" y="12407"/>
                  <a:pt x="6290" y="12418"/>
                  <a:pt x="6400" y="124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16120" y="3821040"/>
            <a:ext cx="1295640" cy="1036800"/>
          </a:xfrm>
          <a:custGeom>
            <a:avLst/>
            <a:gdLst/>
            <a:ahLst/>
            <a:rect l="l" t="t" r="r" b="b"/>
            <a:pathLst>
              <a:path w="3597" h="2879">
                <a:moveTo>
                  <a:pt x="7268" y="12254"/>
                </a:moveTo>
                <a:cubicBezTo>
                  <a:pt x="7705" y="12228"/>
                  <a:pt x="8145" y="12171"/>
                  <a:pt x="8582" y="12129"/>
                </a:cubicBezTo>
                <a:cubicBezTo>
                  <a:pt x="8723" y="12112"/>
                  <a:pt x="8731" y="12104"/>
                  <a:pt x="8806" y="12105"/>
                </a:cubicBezTo>
              </a:path>
              <a:path w="3597" h="2879">
                <a:moveTo>
                  <a:pt x="8235" y="12601"/>
                </a:moveTo>
                <a:cubicBezTo>
                  <a:pt x="8193" y="12502"/>
                  <a:pt x="8142" y="12524"/>
                  <a:pt x="8037" y="12551"/>
                </a:cubicBezTo>
                <a:cubicBezTo>
                  <a:pt x="7931" y="12579"/>
                  <a:pt x="7808" y="12642"/>
                  <a:pt x="7813" y="12774"/>
                </a:cubicBezTo>
                <a:cubicBezTo>
                  <a:pt x="7818" y="12921"/>
                  <a:pt x="8094" y="12940"/>
                  <a:pt x="8186" y="13022"/>
                </a:cubicBezTo>
                <a:cubicBezTo>
                  <a:pt x="8332" y="13152"/>
                  <a:pt x="8266" y="13364"/>
                  <a:pt x="8086" y="13419"/>
                </a:cubicBezTo>
                <a:cubicBezTo>
                  <a:pt x="8045" y="13419"/>
                  <a:pt x="8003" y="13419"/>
                  <a:pt x="7962" y="13419"/>
                </a:cubicBezTo>
                <a:cubicBezTo>
                  <a:pt x="7963" y="13170"/>
                  <a:pt x="8027" y="12926"/>
                  <a:pt x="8161" y="12700"/>
                </a:cubicBezTo>
                <a:cubicBezTo>
                  <a:pt x="8177" y="12683"/>
                  <a:pt x="8194" y="12667"/>
                  <a:pt x="8210" y="12650"/>
                </a:cubicBezTo>
              </a:path>
              <a:path w="3597" h="2879">
                <a:moveTo>
                  <a:pt x="7516" y="11336"/>
                </a:moveTo>
                <a:cubicBezTo>
                  <a:pt x="7643" y="11240"/>
                  <a:pt x="7535" y="11647"/>
                  <a:pt x="7516" y="11733"/>
                </a:cubicBezTo>
                <a:cubicBezTo>
                  <a:pt x="7508" y="11766"/>
                  <a:pt x="7499" y="11799"/>
                  <a:pt x="7491" y="11832"/>
                </a:cubicBezTo>
                <a:cubicBezTo>
                  <a:pt x="7596" y="11806"/>
                  <a:pt x="7689" y="11767"/>
                  <a:pt x="7789" y="11757"/>
                </a:cubicBezTo>
              </a:path>
              <a:path w="3597" h="2879">
                <a:moveTo>
                  <a:pt x="7789" y="11063"/>
                </a:moveTo>
                <a:cubicBezTo>
                  <a:pt x="7767" y="11374"/>
                  <a:pt x="7758" y="11672"/>
                  <a:pt x="7789" y="11981"/>
                </a:cubicBezTo>
                <a:cubicBezTo>
                  <a:pt x="7789" y="11989"/>
                  <a:pt x="7789" y="11997"/>
                  <a:pt x="7789" y="12005"/>
                </a:cubicBezTo>
              </a:path>
              <a:path w="3597" h="2879">
                <a:moveTo>
                  <a:pt x="8111" y="11559"/>
                </a:moveTo>
                <a:cubicBezTo>
                  <a:pt x="8194" y="11559"/>
                  <a:pt x="8276" y="11559"/>
                  <a:pt x="8359" y="11559"/>
                </a:cubicBezTo>
              </a:path>
              <a:path w="3597" h="2879">
                <a:moveTo>
                  <a:pt x="8260" y="11237"/>
                </a:moveTo>
                <a:lnTo>
                  <a:pt x="8260" y="11237"/>
                </a:lnTo>
              </a:path>
              <a:path w="3597" h="2879">
                <a:moveTo>
                  <a:pt x="8384" y="11807"/>
                </a:moveTo>
                <a:lnTo>
                  <a:pt x="8384" y="11807"/>
                </a:lnTo>
              </a:path>
              <a:path w="3597" h="2879">
                <a:moveTo>
                  <a:pt x="8632" y="11311"/>
                </a:moveTo>
                <a:cubicBezTo>
                  <a:pt x="8632" y="11406"/>
                  <a:pt x="8645" y="11490"/>
                  <a:pt x="8657" y="11584"/>
                </a:cubicBezTo>
                <a:cubicBezTo>
                  <a:pt x="8744" y="11562"/>
                  <a:pt x="8748" y="11539"/>
                  <a:pt x="8806" y="11460"/>
                </a:cubicBezTo>
              </a:path>
              <a:path w="3597" h="2879">
                <a:moveTo>
                  <a:pt x="8682" y="11137"/>
                </a:moveTo>
                <a:cubicBezTo>
                  <a:pt x="8728" y="11363"/>
                  <a:pt x="8741" y="11586"/>
                  <a:pt x="8806" y="11807"/>
                </a:cubicBezTo>
              </a:path>
              <a:path w="3597" h="2879">
                <a:moveTo>
                  <a:pt x="8533" y="12750"/>
                </a:moveTo>
                <a:cubicBezTo>
                  <a:pt x="8600" y="12743"/>
                  <a:pt x="8649" y="12733"/>
                  <a:pt x="8706" y="12700"/>
                </a:cubicBezTo>
              </a:path>
              <a:path w="3597" h="2879">
                <a:moveTo>
                  <a:pt x="8632" y="12452"/>
                </a:moveTo>
                <a:lnTo>
                  <a:pt x="8632" y="12452"/>
                </a:lnTo>
              </a:path>
              <a:path w="3597" h="2879">
                <a:moveTo>
                  <a:pt x="8632" y="13072"/>
                </a:moveTo>
                <a:lnTo>
                  <a:pt x="8632" y="13072"/>
                </a:lnTo>
              </a:path>
              <a:path w="3597" h="2879">
                <a:moveTo>
                  <a:pt x="8731" y="12626"/>
                </a:moveTo>
                <a:cubicBezTo>
                  <a:pt x="8758" y="12692"/>
                  <a:pt x="8783" y="12864"/>
                  <a:pt x="8905" y="12799"/>
                </a:cubicBezTo>
                <a:cubicBezTo>
                  <a:pt x="8980" y="12724"/>
                  <a:pt x="9006" y="12697"/>
                  <a:pt x="9029" y="12626"/>
                </a:cubicBezTo>
              </a:path>
              <a:path w="3597" h="2879">
                <a:moveTo>
                  <a:pt x="8930" y="12452"/>
                </a:moveTo>
                <a:cubicBezTo>
                  <a:pt x="8963" y="12648"/>
                  <a:pt x="8994" y="12832"/>
                  <a:pt x="9054" y="13022"/>
                </a:cubicBezTo>
              </a:path>
              <a:path w="3597" h="2879">
                <a:moveTo>
                  <a:pt x="9178" y="12080"/>
                </a:moveTo>
                <a:cubicBezTo>
                  <a:pt x="9228" y="12080"/>
                  <a:pt x="9277" y="12080"/>
                  <a:pt x="9327" y="12080"/>
                </a:cubicBezTo>
              </a:path>
              <a:path w="3597" h="2879">
                <a:moveTo>
                  <a:pt x="9277" y="12254"/>
                </a:moveTo>
                <a:cubicBezTo>
                  <a:pt x="9310" y="12237"/>
                  <a:pt x="9343" y="12221"/>
                  <a:pt x="9376" y="12204"/>
                </a:cubicBezTo>
              </a:path>
              <a:path w="3597" h="2879">
                <a:moveTo>
                  <a:pt x="9823" y="11336"/>
                </a:moveTo>
                <a:cubicBezTo>
                  <a:pt x="9823" y="11552"/>
                  <a:pt x="9852" y="11666"/>
                  <a:pt x="9872" y="11881"/>
                </a:cubicBezTo>
                <a:cubicBezTo>
                  <a:pt x="9872" y="11906"/>
                  <a:pt x="9872" y="11931"/>
                  <a:pt x="9872" y="11956"/>
                </a:cubicBezTo>
              </a:path>
              <a:path w="3597" h="2879">
                <a:moveTo>
                  <a:pt x="9649" y="12278"/>
                </a:moveTo>
                <a:cubicBezTo>
                  <a:pt x="9805" y="12170"/>
                  <a:pt x="9980" y="12204"/>
                  <a:pt x="10170" y="12204"/>
                </a:cubicBezTo>
                <a:cubicBezTo>
                  <a:pt x="10269" y="12204"/>
                  <a:pt x="10286" y="12204"/>
                  <a:pt x="10344" y="12204"/>
                </a:cubicBezTo>
              </a:path>
              <a:path w="3597" h="2879">
                <a:moveTo>
                  <a:pt x="9823" y="12576"/>
                </a:moveTo>
                <a:cubicBezTo>
                  <a:pt x="9845" y="12476"/>
                  <a:pt x="9896" y="12364"/>
                  <a:pt x="10021" y="12427"/>
                </a:cubicBezTo>
                <a:cubicBezTo>
                  <a:pt x="10155" y="12494"/>
                  <a:pt x="10087" y="12711"/>
                  <a:pt x="10021" y="12799"/>
                </a:cubicBezTo>
                <a:cubicBezTo>
                  <a:pt x="9919" y="12935"/>
                  <a:pt x="9837" y="12963"/>
                  <a:pt x="9773" y="13122"/>
                </a:cubicBezTo>
                <a:cubicBezTo>
                  <a:pt x="9861" y="13005"/>
                  <a:pt x="9875" y="12936"/>
                  <a:pt x="10021" y="12973"/>
                </a:cubicBezTo>
                <a:cubicBezTo>
                  <a:pt x="10136" y="13002"/>
                  <a:pt x="10185" y="13057"/>
                  <a:pt x="10269" y="12973"/>
                </a:cubicBezTo>
                <a:cubicBezTo>
                  <a:pt x="10286" y="12956"/>
                  <a:pt x="10302" y="12940"/>
                  <a:pt x="10319" y="12923"/>
                </a:cubicBezTo>
              </a:path>
              <a:path w="3597" h="2879">
                <a:moveTo>
                  <a:pt x="9723" y="13494"/>
                </a:moveTo>
                <a:cubicBezTo>
                  <a:pt x="10011" y="13494"/>
                  <a:pt x="10130" y="13413"/>
                  <a:pt x="10368" y="13246"/>
                </a:cubicBezTo>
                <a:cubicBezTo>
                  <a:pt x="10587" y="13093"/>
                  <a:pt x="10742" y="12934"/>
                  <a:pt x="10815" y="12675"/>
                </a:cubicBezTo>
                <a:cubicBezTo>
                  <a:pt x="10897" y="12384"/>
                  <a:pt x="10854" y="12144"/>
                  <a:pt x="10790" y="11857"/>
                </a:cubicBezTo>
                <a:cubicBezTo>
                  <a:pt x="10728" y="11576"/>
                  <a:pt x="10639" y="11311"/>
                  <a:pt x="10492" y="11063"/>
                </a:cubicBezTo>
                <a:cubicBezTo>
                  <a:pt x="10376" y="10867"/>
                  <a:pt x="10218" y="10765"/>
                  <a:pt x="10021" y="10666"/>
                </a:cubicBezTo>
                <a:cubicBezTo>
                  <a:pt x="9856" y="10583"/>
                  <a:pt x="9720" y="10603"/>
                  <a:pt x="9575" y="10716"/>
                </a:cubicBezTo>
                <a:cubicBezTo>
                  <a:pt x="9445" y="10817"/>
                  <a:pt x="9386" y="10967"/>
                  <a:pt x="9327" y="11112"/>
                </a:cubicBezTo>
                <a:cubicBezTo>
                  <a:pt x="9257" y="11285"/>
                  <a:pt x="9252" y="11425"/>
                  <a:pt x="9252" y="11609"/>
                </a:cubicBezTo>
                <a:cubicBezTo>
                  <a:pt x="9252" y="11754"/>
                  <a:pt x="9264" y="11891"/>
                  <a:pt x="9277" y="12030"/>
                </a:cubicBezTo>
                <a:cubicBezTo>
                  <a:pt x="9291" y="12181"/>
                  <a:pt x="9348" y="12307"/>
                  <a:pt x="9376" y="12452"/>
                </a:cubicBezTo>
                <a:cubicBezTo>
                  <a:pt x="9395" y="12552"/>
                  <a:pt x="9430" y="12649"/>
                  <a:pt x="9451" y="12750"/>
                </a:cubicBezTo>
                <a:cubicBezTo>
                  <a:pt x="9468" y="12830"/>
                  <a:pt x="9460" y="12919"/>
                  <a:pt x="9475" y="12998"/>
                </a:cubicBezTo>
                <a:cubicBezTo>
                  <a:pt x="9489" y="13072"/>
                  <a:pt x="9553" y="13134"/>
                  <a:pt x="9575" y="13196"/>
                </a:cubicBezTo>
                <a:cubicBezTo>
                  <a:pt x="9608" y="13292"/>
                  <a:pt x="9603" y="13316"/>
                  <a:pt x="9674" y="13395"/>
                </a:cubicBezTo>
                <a:cubicBezTo>
                  <a:pt x="9759" y="13490"/>
                  <a:pt x="9790" y="13491"/>
                  <a:pt x="9897" y="13469"/>
                </a:cubicBezTo>
                <a:cubicBezTo>
                  <a:pt x="9952" y="13458"/>
                  <a:pt x="10017" y="13433"/>
                  <a:pt x="10071" y="134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95880" y="3633840"/>
            <a:ext cx="579240" cy="1305000"/>
          </a:xfrm>
          <a:custGeom>
            <a:avLst/>
            <a:gdLst/>
            <a:ahLst/>
            <a:rect l="l" t="t" r="r" b="b"/>
            <a:pathLst>
              <a:path w="1613" h="3622">
                <a:moveTo>
                  <a:pt x="12626" y="11782"/>
                </a:moveTo>
                <a:cubicBezTo>
                  <a:pt x="12675" y="11923"/>
                  <a:pt x="12715" y="12059"/>
                  <a:pt x="12750" y="12204"/>
                </a:cubicBezTo>
              </a:path>
              <a:path w="1613" h="3622">
                <a:moveTo>
                  <a:pt x="12774" y="11733"/>
                </a:moveTo>
                <a:cubicBezTo>
                  <a:pt x="12728" y="11861"/>
                  <a:pt x="12679" y="11979"/>
                  <a:pt x="12626" y="12105"/>
                </a:cubicBezTo>
              </a:path>
              <a:path w="1613" h="3622">
                <a:moveTo>
                  <a:pt x="12154" y="12303"/>
                </a:moveTo>
                <a:cubicBezTo>
                  <a:pt x="12142" y="12397"/>
                  <a:pt x="12129" y="12481"/>
                  <a:pt x="12129" y="12576"/>
                </a:cubicBezTo>
                <a:cubicBezTo>
                  <a:pt x="12215" y="12550"/>
                  <a:pt x="12293" y="12500"/>
                  <a:pt x="12378" y="12452"/>
                </a:cubicBezTo>
              </a:path>
              <a:path w="1613" h="3622">
                <a:moveTo>
                  <a:pt x="12353" y="12278"/>
                </a:moveTo>
                <a:cubicBezTo>
                  <a:pt x="12320" y="12466"/>
                  <a:pt x="12270" y="12668"/>
                  <a:pt x="12303" y="12849"/>
                </a:cubicBezTo>
              </a:path>
              <a:path w="1613" h="3622">
                <a:moveTo>
                  <a:pt x="12774" y="13072"/>
                </a:moveTo>
                <a:cubicBezTo>
                  <a:pt x="12774" y="13282"/>
                  <a:pt x="12765" y="13466"/>
                  <a:pt x="12700" y="13667"/>
                </a:cubicBezTo>
                <a:cubicBezTo>
                  <a:pt x="12692" y="13684"/>
                  <a:pt x="12683" y="13700"/>
                  <a:pt x="12675" y="13717"/>
                </a:cubicBezTo>
              </a:path>
              <a:path w="1613" h="3622">
                <a:moveTo>
                  <a:pt x="13097" y="13146"/>
                </a:moveTo>
                <a:cubicBezTo>
                  <a:pt x="13132" y="13130"/>
                  <a:pt x="13088" y="13248"/>
                  <a:pt x="13072" y="13320"/>
                </a:cubicBezTo>
                <a:cubicBezTo>
                  <a:pt x="13056" y="13393"/>
                  <a:pt x="13017" y="13516"/>
                  <a:pt x="13047" y="13593"/>
                </a:cubicBezTo>
                <a:cubicBezTo>
                  <a:pt x="13086" y="13694"/>
                  <a:pt x="13201" y="13666"/>
                  <a:pt x="13271" y="13643"/>
                </a:cubicBezTo>
                <a:cubicBezTo>
                  <a:pt x="13382" y="13606"/>
                  <a:pt x="13447" y="13528"/>
                  <a:pt x="13519" y="13444"/>
                </a:cubicBezTo>
                <a:cubicBezTo>
                  <a:pt x="13527" y="13436"/>
                  <a:pt x="13535" y="13427"/>
                  <a:pt x="13543" y="13419"/>
                </a:cubicBezTo>
                <a:cubicBezTo>
                  <a:pt x="13471" y="13374"/>
                  <a:pt x="13408" y="13375"/>
                  <a:pt x="13345" y="13469"/>
                </a:cubicBezTo>
                <a:cubicBezTo>
                  <a:pt x="13293" y="13547"/>
                  <a:pt x="13249" y="13637"/>
                  <a:pt x="13295" y="13717"/>
                </a:cubicBezTo>
              </a:path>
              <a:path w="1613" h="3622">
                <a:moveTo>
                  <a:pt x="11931" y="11981"/>
                </a:moveTo>
                <a:cubicBezTo>
                  <a:pt x="12090" y="11981"/>
                  <a:pt x="12243" y="12017"/>
                  <a:pt x="12402" y="12005"/>
                </a:cubicBezTo>
                <a:cubicBezTo>
                  <a:pt x="12501" y="11986"/>
                  <a:pt x="12517" y="11978"/>
                  <a:pt x="12576" y="11981"/>
                </a:cubicBezTo>
              </a:path>
              <a:path w="1613" h="3622">
                <a:moveTo>
                  <a:pt x="12080" y="11534"/>
                </a:moveTo>
                <a:cubicBezTo>
                  <a:pt x="12050" y="11605"/>
                  <a:pt x="12018" y="11666"/>
                  <a:pt x="11981" y="11733"/>
                </a:cubicBezTo>
                <a:cubicBezTo>
                  <a:pt x="12074" y="11724"/>
                  <a:pt x="12162" y="11693"/>
                  <a:pt x="12254" y="11683"/>
                </a:cubicBezTo>
              </a:path>
              <a:path w="1613" h="3622">
                <a:moveTo>
                  <a:pt x="12303" y="11460"/>
                </a:moveTo>
                <a:cubicBezTo>
                  <a:pt x="12219" y="11569"/>
                  <a:pt x="12220" y="11731"/>
                  <a:pt x="12204" y="11881"/>
                </a:cubicBezTo>
                <a:cubicBezTo>
                  <a:pt x="12204" y="11898"/>
                  <a:pt x="12204" y="11914"/>
                  <a:pt x="12204" y="11931"/>
                </a:cubicBezTo>
              </a:path>
              <a:path w="1613" h="3622">
                <a:moveTo>
                  <a:pt x="12650" y="10170"/>
                </a:moveTo>
                <a:cubicBezTo>
                  <a:pt x="12617" y="10203"/>
                  <a:pt x="12604" y="10484"/>
                  <a:pt x="12601" y="10616"/>
                </a:cubicBezTo>
                <a:cubicBezTo>
                  <a:pt x="12601" y="10641"/>
                  <a:pt x="12601" y="10666"/>
                  <a:pt x="12601" y="10691"/>
                </a:cubicBezTo>
              </a:path>
              <a:path w="1613" h="3622">
                <a:moveTo>
                  <a:pt x="12923" y="10244"/>
                </a:moveTo>
                <a:cubicBezTo>
                  <a:pt x="12781" y="10302"/>
                  <a:pt x="13039" y="10118"/>
                  <a:pt x="13072" y="10096"/>
                </a:cubicBezTo>
                <a:cubicBezTo>
                  <a:pt x="13216" y="10306"/>
                  <a:pt x="13266" y="10538"/>
                  <a:pt x="12973" y="10691"/>
                </a:cubicBezTo>
                <a:cubicBezTo>
                  <a:pt x="12932" y="10691"/>
                  <a:pt x="12890" y="10691"/>
                  <a:pt x="12849" y="10691"/>
                </a:cubicBezTo>
                <a:cubicBezTo>
                  <a:pt x="12861" y="10527"/>
                  <a:pt x="13008" y="10404"/>
                  <a:pt x="13171" y="10567"/>
                </a:cubicBezTo>
                <a:cubicBezTo>
                  <a:pt x="13213" y="10650"/>
                  <a:pt x="13221" y="10666"/>
                  <a:pt x="13246" y="107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18000" y="2705040"/>
            <a:ext cx="2233800" cy="63720"/>
          </a:xfrm>
          <a:custGeom>
            <a:avLst/>
            <a:gdLst/>
            <a:ahLst/>
            <a:rect l="l" t="t" r="r" b="b"/>
            <a:pathLst>
              <a:path w="6202" h="174">
                <a:moveTo>
                  <a:pt x="12551" y="7689"/>
                </a:moveTo>
                <a:cubicBezTo>
                  <a:pt x="12623" y="7677"/>
                  <a:pt x="12700" y="7646"/>
                  <a:pt x="12774" y="7640"/>
                </a:cubicBezTo>
                <a:cubicBezTo>
                  <a:pt x="12854" y="7633"/>
                  <a:pt x="12923" y="7628"/>
                  <a:pt x="12998" y="7615"/>
                </a:cubicBezTo>
                <a:cubicBezTo>
                  <a:pt x="13112" y="7595"/>
                  <a:pt x="13230" y="7584"/>
                  <a:pt x="13345" y="7565"/>
                </a:cubicBezTo>
                <a:cubicBezTo>
                  <a:pt x="13495" y="7541"/>
                  <a:pt x="13622" y="7579"/>
                  <a:pt x="13767" y="7565"/>
                </a:cubicBezTo>
                <a:cubicBezTo>
                  <a:pt x="13903" y="7552"/>
                  <a:pt x="14052" y="7559"/>
                  <a:pt x="14188" y="7541"/>
                </a:cubicBezTo>
                <a:cubicBezTo>
                  <a:pt x="14308" y="7525"/>
                  <a:pt x="14413" y="7516"/>
                  <a:pt x="14536" y="7516"/>
                </a:cubicBezTo>
                <a:cubicBezTo>
                  <a:pt x="14696" y="7516"/>
                  <a:pt x="14849" y="7537"/>
                  <a:pt x="15007" y="7541"/>
                </a:cubicBezTo>
                <a:cubicBezTo>
                  <a:pt x="15265" y="7548"/>
                  <a:pt x="15521" y="7548"/>
                  <a:pt x="15776" y="7565"/>
                </a:cubicBezTo>
                <a:cubicBezTo>
                  <a:pt x="16025" y="7582"/>
                  <a:pt x="16272" y="7546"/>
                  <a:pt x="16520" y="7541"/>
                </a:cubicBezTo>
                <a:cubicBezTo>
                  <a:pt x="16680" y="7538"/>
                  <a:pt x="16832" y="7562"/>
                  <a:pt x="16991" y="7565"/>
                </a:cubicBezTo>
                <a:cubicBezTo>
                  <a:pt x="17323" y="7571"/>
                  <a:pt x="17654" y="7550"/>
                  <a:pt x="17983" y="7541"/>
                </a:cubicBezTo>
                <a:cubicBezTo>
                  <a:pt x="18239" y="7534"/>
                  <a:pt x="18496" y="7541"/>
                  <a:pt x="18752" y="75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52360" y="1751040"/>
            <a:ext cx="2865600" cy="88920"/>
          </a:xfrm>
          <a:custGeom>
            <a:avLst/>
            <a:gdLst/>
            <a:ahLst/>
            <a:rect l="l" t="t" r="r" b="b"/>
            <a:pathLst>
              <a:path w="7963" h="249">
                <a:moveTo>
                  <a:pt x="3200" y="5035"/>
                </a:moveTo>
                <a:cubicBezTo>
                  <a:pt x="3333" y="5002"/>
                  <a:pt x="3408" y="4981"/>
                  <a:pt x="3547" y="5011"/>
                </a:cubicBezTo>
                <a:cubicBezTo>
                  <a:pt x="3655" y="5035"/>
                  <a:pt x="3793" y="5078"/>
                  <a:pt x="3894" y="5085"/>
                </a:cubicBezTo>
                <a:cubicBezTo>
                  <a:pt x="4012" y="5093"/>
                  <a:pt x="4127" y="5104"/>
                  <a:pt x="4242" y="5110"/>
                </a:cubicBezTo>
                <a:cubicBezTo>
                  <a:pt x="4343" y="5116"/>
                  <a:pt x="4442" y="5101"/>
                  <a:pt x="4539" y="5085"/>
                </a:cubicBezTo>
                <a:cubicBezTo>
                  <a:pt x="4640" y="5068"/>
                  <a:pt x="4733" y="5071"/>
                  <a:pt x="4837" y="5060"/>
                </a:cubicBezTo>
                <a:cubicBezTo>
                  <a:pt x="5051" y="5037"/>
                  <a:pt x="5270" y="5021"/>
                  <a:pt x="5482" y="4986"/>
                </a:cubicBezTo>
                <a:cubicBezTo>
                  <a:pt x="5607" y="4965"/>
                  <a:pt x="5729" y="4944"/>
                  <a:pt x="5854" y="4936"/>
                </a:cubicBezTo>
                <a:cubicBezTo>
                  <a:pt x="6100" y="4920"/>
                  <a:pt x="6352" y="4916"/>
                  <a:pt x="6598" y="4911"/>
                </a:cubicBezTo>
                <a:cubicBezTo>
                  <a:pt x="7096" y="4901"/>
                  <a:pt x="7590" y="4936"/>
                  <a:pt x="8086" y="4936"/>
                </a:cubicBezTo>
                <a:cubicBezTo>
                  <a:pt x="8248" y="4936"/>
                  <a:pt x="8421" y="4928"/>
                  <a:pt x="8582" y="4911"/>
                </a:cubicBezTo>
                <a:cubicBezTo>
                  <a:pt x="8687" y="4900"/>
                  <a:pt x="8792" y="4881"/>
                  <a:pt x="8905" y="4887"/>
                </a:cubicBezTo>
                <a:cubicBezTo>
                  <a:pt x="9084" y="4897"/>
                  <a:pt x="9244" y="4896"/>
                  <a:pt x="9426" y="4887"/>
                </a:cubicBezTo>
                <a:cubicBezTo>
                  <a:pt x="9625" y="4878"/>
                  <a:pt x="9821" y="4862"/>
                  <a:pt x="10021" y="4862"/>
                </a:cubicBezTo>
                <a:cubicBezTo>
                  <a:pt x="10155" y="4862"/>
                  <a:pt x="10287" y="4864"/>
                  <a:pt x="10418" y="4887"/>
                </a:cubicBezTo>
                <a:cubicBezTo>
                  <a:pt x="10665" y="4929"/>
                  <a:pt x="10867" y="4930"/>
                  <a:pt x="11112" y="4911"/>
                </a:cubicBezTo>
                <a:cubicBezTo>
                  <a:pt x="11129" y="4911"/>
                  <a:pt x="11145" y="4911"/>
                  <a:pt x="11162" y="49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70160" y="3197160"/>
            <a:ext cx="2241720" cy="54000"/>
          </a:xfrm>
          <a:custGeom>
            <a:avLst/>
            <a:gdLst/>
            <a:ahLst/>
            <a:rect l="l" t="t" r="r" b="b"/>
            <a:pathLst>
              <a:path w="6227" h="150">
                <a:moveTo>
                  <a:pt x="8806" y="8979"/>
                </a:moveTo>
                <a:cubicBezTo>
                  <a:pt x="8886" y="8992"/>
                  <a:pt x="8949" y="9002"/>
                  <a:pt x="9029" y="9004"/>
                </a:cubicBezTo>
                <a:cubicBezTo>
                  <a:pt x="9099" y="9006"/>
                  <a:pt x="9164" y="9024"/>
                  <a:pt x="9227" y="9029"/>
                </a:cubicBezTo>
                <a:cubicBezTo>
                  <a:pt x="9436" y="9046"/>
                  <a:pt x="9641" y="9009"/>
                  <a:pt x="9847" y="9004"/>
                </a:cubicBezTo>
                <a:cubicBezTo>
                  <a:pt x="10195" y="8996"/>
                  <a:pt x="10543" y="8979"/>
                  <a:pt x="10889" y="8979"/>
                </a:cubicBezTo>
                <a:cubicBezTo>
                  <a:pt x="11015" y="8979"/>
                  <a:pt x="11132" y="8954"/>
                  <a:pt x="11261" y="8954"/>
                </a:cubicBezTo>
                <a:cubicBezTo>
                  <a:pt x="12037" y="8954"/>
                  <a:pt x="12850" y="8887"/>
                  <a:pt x="13618" y="8979"/>
                </a:cubicBezTo>
                <a:cubicBezTo>
                  <a:pt x="13762" y="8996"/>
                  <a:pt x="13891" y="8979"/>
                  <a:pt x="14039" y="8979"/>
                </a:cubicBezTo>
                <a:cubicBezTo>
                  <a:pt x="14175" y="8979"/>
                  <a:pt x="14301" y="8957"/>
                  <a:pt x="14436" y="8954"/>
                </a:cubicBezTo>
                <a:cubicBezTo>
                  <a:pt x="14567" y="8951"/>
                  <a:pt x="14703" y="8944"/>
                  <a:pt x="14833" y="8930"/>
                </a:cubicBezTo>
                <a:cubicBezTo>
                  <a:pt x="14902" y="8922"/>
                  <a:pt x="14961" y="8894"/>
                  <a:pt x="15032" y="88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688000" y="4268880"/>
            <a:ext cx="142920" cy="17280"/>
          </a:xfrm>
          <a:custGeom>
            <a:avLst/>
            <a:gdLst/>
            <a:ahLst/>
            <a:rect l="l" t="t" r="r" b="b"/>
            <a:pathLst>
              <a:path w="397" h="50">
                <a:moveTo>
                  <a:pt x="15801" y="11881"/>
                </a:moveTo>
                <a:cubicBezTo>
                  <a:pt x="15952" y="11869"/>
                  <a:pt x="16048" y="11873"/>
                  <a:pt x="16197" y="119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97360" y="4340160"/>
            <a:ext cx="142920" cy="44640"/>
          </a:xfrm>
          <a:custGeom>
            <a:avLst/>
            <a:gdLst/>
            <a:ahLst/>
            <a:rect l="l" t="t" r="r" b="b"/>
            <a:pathLst>
              <a:path w="398" h="125">
                <a:moveTo>
                  <a:pt x="15825" y="12179"/>
                </a:moveTo>
                <a:cubicBezTo>
                  <a:pt x="15958" y="12139"/>
                  <a:pt x="16090" y="12099"/>
                  <a:pt x="16222" y="120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69040" y="4394160"/>
            <a:ext cx="34920" cy="276120"/>
          </a:xfrm>
          <a:custGeom>
            <a:avLst/>
            <a:gdLst/>
            <a:ahLst/>
            <a:rect l="l" t="t" r="r" b="b"/>
            <a:pathLst>
              <a:path w="100" h="770">
                <a:moveTo>
                  <a:pt x="17512" y="12204"/>
                </a:moveTo>
                <a:cubicBezTo>
                  <a:pt x="17487" y="12463"/>
                  <a:pt x="17444" y="12719"/>
                  <a:pt x="17413" y="129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56240" y="4394160"/>
            <a:ext cx="179640" cy="293760"/>
          </a:xfrm>
          <a:custGeom>
            <a:avLst/>
            <a:gdLst/>
            <a:ahLst/>
            <a:rect l="l" t="t" r="r" b="b"/>
            <a:pathLst>
              <a:path w="497" h="819">
                <a:moveTo>
                  <a:pt x="17934" y="12204"/>
                </a:moveTo>
                <a:cubicBezTo>
                  <a:pt x="17964" y="12412"/>
                  <a:pt x="17940" y="12616"/>
                  <a:pt x="17959" y="12824"/>
                </a:cubicBezTo>
                <a:cubicBezTo>
                  <a:pt x="17982" y="12941"/>
                  <a:pt x="17985" y="12978"/>
                  <a:pt x="18058" y="13022"/>
                </a:cubicBezTo>
                <a:cubicBezTo>
                  <a:pt x="18284" y="12984"/>
                  <a:pt x="18352" y="12935"/>
                  <a:pt x="18430" y="12725"/>
                </a:cubicBezTo>
                <a:cubicBezTo>
                  <a:pt x="18216" y="12751"/>
                  <a:pt x="18200" y="12819"/>
                  <a:pt x="18132" y="130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80120" y="4286160"/>
            <a:ext cx="571680" cy="81000"/>
          </a:xfrm>
          <a:custGeom>
            <a:avLst/>
            <a:gdLst/>
            <a:ahLst/>
            <a:rect l="l" t="t" r="r" b="b"/>
            <a:pathLst>
              <a:path w="1588" h="224">
                <a:moveTo>
                  <a:pt x="17165" y="11931"/>
                </a:moveTo>
                <a:cubicBezTo>
                  <a:pt x="17446" y="11896"/>
                  <a:pt x="17729" y="12002"/>
                  <a:pt x="18008" y="12055"/>
                </a:cubicBezTo>
                <a:cubicBezTo>
                  <a:pt x="18268" y="12105"/>
                  <a:pt x="18494" y="12123"/>
                  <a:pt x="18752" y="121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48240" y="3911760"/>
            <a:ext cx="216000" cy="249120"/>
          </a:xfrm>
          <a:custGeom>
            <a:avLst/>
            <a:gdLst/>
            <a:ahLst/>
            <a:rect l="l" t="t" r="r" b="b"/>
            <a:pathLst>
              <a:path w="596" h="696">
                <a:moveTo>
                  <a:pt x="18207" y="10939"/>
                </a:moveTo>
                <a:cubicBezTo>
                  <a:pt x="18131" y="10926"/>
                  <a:pt x="17905" y="10802"/>
                  <a:pt x="17835" y="10864"/>
                </a:cubicBezTo>
                <a:cubicBezTo>
                  <a:pt x="17737" y="10951"/>
                  <a:pt x="17785" y="11171"/>
                  <a:pt x="17785" y="11286"/>
                </a:cubicBezTo>
                <a:cubicBezTo>
                  <a:pt x="17827" y="11175"/>
                  <a:pt x="17944" y="11090"/>
                  <a:pt x="18083" y="11112"/>
                </a:cubicBezTo>
                <a:cubicBezTo>
                  <a:pt x="18400" y="11163"/>
                  <a:pt x="18153" y="11523"/>
                  <a:pt x="17959" y="11559"/>
                </a:cubicBezTo>
                <a:cubicBezTo>
                  <a:pt x="17773" y="11538"/>
                  <a:pt x="17733" y="11547"/>
                  <a:pt x="17636" y="114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00840" y="3768840"/>
            <a:ext cx="1143000" cy="1224000"/>
          </a:xfrm>
          <a:custGeom>
            <a:avLst/>
            <a:gdLst/>
            <a:ahLst/>
            <a:rect l="l" t="t" r="r" b="b"/>
            <a:pathLst>
              <a:path w="3176" h="3399">
                <a:moveTo>
                  <a:pt x="16942" y="13692"/>
                </a:moveTo>
                <a:cubicBezTo>
                  <a:pt x="17118" y="13674"/>
                  <a:pt x="17180" y="13698"/>
                  <a:pt x="17363" y="13767"/>
                </a:cubicBezTo>
                <a:cubicBezTo>
                  <a:pt x="17726" y="13904"/>
                  <a:pt x="18084" y="13879"/>
                  <a:pt x="18455" y="13767"/>
                </a:cubicBezTo>
                <a:cubicBezTo>
                  <a:pt x="18838" y="13652"/>
                  <a:pt x="19206" y="13415"/>
                  <a:pt x="19422" y="13072"/>
                </a:cubicBezTo>
                <a:cubicBezTo>
                  <a:pt x="19606" y="12780"/>
                  <a:pt x="19800" y="12399"/>
                  <a:pt x="19844" y="12055"/>
                </a:cubicBezTo>
                <a:cubicBezTo>
                  <a:pt x="19880" y="11773"/>
                  <a:pt x="19758" y="11429"/>
                  <a:pt x="19621" y="11187"/>
                </a:cubicBezTo>
                <a:cubicBezTo>
                  <a:pt x="19459" y="10900"/>
                  <a:pt x="19234" y="10691"/>
                  <a:pt x="18926" y="10592"/>
                </a:cubicBezTo>
                <a:cubicBezTo>
                  <a:pt x="18673" y="10511"/>
                  <a:pt x="18448" y="10471"/>
                  <a:pt x="18182" y="10468"/>
                </a:cubicBezTo>
                <a:cubicBezTo>
                  <a:pt x="17868" y="10464"/>
                  <a:pt x="17626" y="10529"/>
                  <a:pt x="17363" y="10691"/>
                </a:cubicBezTo>
                <a:cubicBezTo>
                  <a:pt x="17172" y="10809"/>
                  <a:pt x="17034" y="10982"/>
                  <a:pt x="16942" y="11187"/>
                </a:cubicBezTo>
                <a:cubicBezTo>
                  <a:pt x="16842" y="11412"/>
                  <a:pt x="16789" y="11666"/>
                  <a:pt x="16743" y="11906"/>
                </a:cubicBezTo>
                <a:cubicBezTo>
                  <a:pt x="16701" y="12127"/>
                  <a:pt x="16717" y="12354"/>
                  <a:pt x="16694" y="12576"/>
                </a:cubicBezTo>
                <a:cubicBezTo>
                  <a:pt x="16670" y="12804"/>
                  <a:pt x="16719" y="12955"/>
                  <a:pt x="16793" y="13171"/>
                </a:cubicBezTo>
                <a:cubicBezTo>
                  <a:pt x="16880" y="13423"/>
                  <a:pt x="16981" y="13468"/>
                  <a:pt x="17214" y="135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subtract fractions and mixed numb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7621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ame whole numbers as fractions if necess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53920" y="258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276720" y="2639880"/>
                <a:ext cx="158724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1027080" y="3000240"/>
            <a:ext cx="374760" cy="1295640"/>
          </a:xfrm>
          <a:custGeom>
            <a:avLst/>
            <a:gdLst/>
            <a:ahLst/>
            <a:rect l="l" t="t" r="r" b="b"/>
            <a:pathLst>
              <a:path w="1042" h="3598">
                <a:moveTo>
                  <a:pt x="2877" y="9872"/>
                </a:moveTo>
                <a:cubicBezTo>
                  <a:pt x="2878" y="9924"/>
                  <a:pt x="2998" y="10110"/>
                  <a:pt x="3051" y="10195"/>
                </a:cubicBezTo>
                <a:cubicBezTo>
                  <a:pt x="3372" y="10716"/>
                  <a:pt x="3670" y="11252"/>
                  <a:pt x="3870" y="11832"/>
                </a:cubicBezTo>
                <a:cubicBezTo>
                  <a:pt x="3878" y="11865"/>
                  <a:pt x="3886" y="11898"/>
                  <a:pt x="3894" y="11931"/>
                </a:cubicBezTo>
              </a:path>
              <a:path w="1042" h="3598">
                <a:moveTo>
                  <a:pt x="3200" y="8334"/>
                </a:moveTo>
                <a:cubicBezTo>
                  <a:pt x="3337" y="8472"/>
                  <a:pt x="3294" y="8862"/>
                  <a:pt x="3299" y="9054"/>
                </a:cubicBezTo>
                <a:cubicBezTo>
                  <a:pt x="3299" y="9161"/>
                  <a:pt x="3299" y="9169"/>
                  <a:pt x="3299" y="92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58920" y="4680000"/>
            <a:ext cx="768240" cy="731880"/>
          </a:xfrm>
          <a:custGeom>
            <a:avLst/>
            <a:gdLst/>
            <a:ahLst/>
            <a:rect l="l" t="t" r="r" b="b"/>
            <a:pathLst>
              <a:path w="2135" h="2035">
                <a:moveTo>
                  <a:pt x="3696" y="13345"/>
                </a:moveTo>
                <a:cubicBezTo>
                  <a:pt x="3719" y="13753"/>
                  <a:pt x="3656" y="14115"/>
                  <a:pt x="3547" y="14511"/>
                </a:cubicBezTo>
                <a:cubicBezTo>
                  <a:pt x="3530" y="14561"/>
                  <a:pt x="3514" y="14610"/>
                  <a:pt x="3497" y="14660"/>
                </a:cubicBezTo>
              </a:path>
              <a:path w="2135" h="2035">
                <a:moveTo>
                  <a:pt x="4887" y="13022"/>
                </a:moveTo>
                <a:cubicBezTo>
                  <a:pt x="5016" y="13022"/>
                  <a:pt x="5132" y="13016"/>
                  <a:pt x="5259" y="12998"/>
                </a:cubicBezTo>
                <a:cubicBezTo>
                  <a:pt x="5183" y="13190"/>
                  <a:pt x="5111" y="13370"/>
                  <a:pt x="5060" y="13568"/>
                </a:cubicBezTo>
              </a:path>
              <a:path w="2135" h="2035">
                <a:moveTo>
                  <a:pt x="4589" y="13915"/>
                </a:moveTo>
                <a:cubicBezTo>
                  <a:pt x="4938" y="13835"/>
                  <a:pt x="5272" y="13780"/>
                  <a:pt x="5631" y="13767"/>
                </a:cubicBezTo>
              </a:path>
              <a:path w="2135" h="2035">
                <a:moveTo>
                  <a:pt x="4961" y="14188"/>
                </a:moveTo>
                <a:cubicBezTo>
                  <a:pt x="4935" y="14498"/>
                  <a:pt x="4854" y="14742"/>
                  <a:pt x="4738" y="15032"/>
                </a:cubicBezTo>
              </a:path>
              <a:path w="2135" h="2035">
                <a:moveTo>
                  <a:pt x="5358" y="14288"/>
                </a:moveTo>
                <a:cubicBezTo>
                  <a:pt x="5290" y="14469"/>
                  <a:pt x="5233" y="14620"/>
                  <a:pt x="5209" y="14808"/>
                </a:cubicBezTo>
                <a:cubicBezTo>
                  <a:pt x="5373" y="14801"/>
                  <a:pt x="5733" y="14735"/>
                  <a:pt x="5581" y="14461"/>
                </a:cubicBezTo>
                <a:cubicBezTo>
                  <a:pt x="5548" y="14436"/>
                  <a:pt x="5515" y="14412"/>
                  <a:pt x="5482" y="143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16040" y="3500280"/>
            <a:ext cx="330120" cy="731880"/>
          </a:xfrm>
          <a:custGeom>
            <a:avLst/>
            <a:gdLst/>
            <a:ahLst/>
            <a:rect l="l" t="t" r="r" b="b"/>
            <a:pathLst>
              <a:path w="918" h="2035">
                <a:moveTo>
                  <a:pt x="4663" y="9897"/>
                </a:moveTo>
                <a:cubicBezTo>
                  <a:pt x="4780" y="9744"/>
                  <a:pt x="4752" y="9736"/>
                  <a:pt x="4936" y="9748"/>
                </a:cubicBezTo>
                <a:cubicBezTo>
                  <a:pt x="5035" y="10084"/>
                  <a:pt x="4876" y="10209"/>
                  <a:pt x="4638" y="10468"/>
                </a:cubicBezTo>
                <a:cubicBezTo>
                  <a:pt x="4553" y="10553"/>
                  <a:pt x="4514" y="10605"/>
                  <a:pt x="4564" y="10492"/>
                </a:cubicBezTo>
                <a:cubicBezTo>
                  <a:pt x="4787" y="10391"/>
                  <a:pt x="4962" y="10393"/>
                  <a:pt x="5209" y="10393"/>
                </a:cubicBezTo>
                <a:cubicBezTo>
                  <a:pt x="5250" y="10393"/>
                  <a:pt x="5292" y="10393"/>
                  <a:pt x="5333" y="10393"/>
                </a:cubicBezTo>
              </a:path>
              <a:path w="918" h="2035">
                <a:moveTo>
                  <a:pt x="4663" y="10716"/>
                </a:moveTo>
                <a:cubicBezTo>
                  <a:pt x="4913" y="10691"/>
                  <a:pt x="5157" y="10673"/>
                  <a:pt x="5407" y="10666"/>
                </a:cubicBezTo>
              </a:path>
              <a:path w="918" h="2035">
                <a:moveTo>
                  <a:pt x="5110" y="10988"/>
                </a:moveTo>
                <a:cubicBezTo>
                  <a:pt x="5039" y="10988"/>
                  <a:pt x="4812" y="10963"/>
                  <a:pt x="4762" y="11013"/>
                </a:cubicBezTo>
                <a:cubicBezTo>
                  <a:pt x="4662" y="11113"/>
                  <a:pt x="4688" y="11212"/>
                  <a:pt x="4688" y="11336"/>
                </a:cubicBezTo>
                <a:cubicBezTo>
                  <a:pt x="4824" y="11346"/>
                  <a:pt x="5142" y="11208"/>
                  <a:pt x="5159" y="11460"/>
                </a:cubicBezTo>
                <a:cubicBezTo>
                  <a:pt x="5181" y="11789"/>
                  <a:pt x="4677" y="11738"/>
                  <a:pt x="4490" y="117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28800" y="3527280"/>
            <a:ext cx="1839960" cy="714600"/>
          </a:xfrm>
          <a:custGeom>
            <a:avLst/>
            <a:gdLst/>
            <a:ahLst/>
            <a:rect l="l" t="t" r="r" b="b"/>
            <a:pathLst>
              <a:path w="5110" h="1985">
                <a:moveTo>
                  <a:pt x="2952" y="10344"/>
                </a:moveTo>
                <a:cubicBezTo>
                  <a:pt x="3119" y="10206"/>
                  <a:pt x="3191" y="10159"/>
                  <a:pt x="3398" y="10220"/>
                </a:cubicBezTo>
                <a:cubicBezTo>
                  <a:pt x="3368" y="10692"/>
                  <a:pt x="3085" y="10966"/>
                  <a:pt x="2828" y="11361"/>
                </a:cubicBezTo>
                <a:cubicBezTo>
                  <a:pt x="2737" y="11501"/>
                  <a:pt x="2662" y="11700"/>
                  <a:pt x="2580" y="11658"/>
                </a:cubicBezTo>
                <a:cubicBezTo>
                  <a:pt x="2821" y="11363"/>
                  <a:pt x="2889" y="11408"/>
                  <a:pt x="3249" y="11485"/>
                </a:cubicBezTo>
                <a:cubicBezTo>
                  <a:pt x="3381" y="11506"/>
                  <a:pt x="3413" y="11514"/>
                  <a:pt x="3497" y="11509"/>
                </a:cubicBezTo>
              </a:path>
              <a:path w="5110" h="1985">
                <a:moveTo>
                  <a:pt x="5829" y="10641"/>
                </a:moveTo>
                <a:cubicBezTo>
                  <a:pt x="6041" y="10599"/>
                  <a:pt x="6232" y="10592"/>
                  <a:pt x="6449" y="10592"/>
                </a:cubicBezTo>
              </a:path>
              <a:path w="5110" h="1985">
                <a:moveTo>
                  <a:pt x="5928" y="10195"/>
                </a:moveTo>
                <a:cubicBezTo>
                  <a:pt x="5984" y="10131"/>
                  <a:pt x="6015" y="10113"/>
                  <a:pt x="6102" y="10096"/>
                </a:cubicBezTo>
                <a:cubicBezTo>
                  <a:pt x="6088" y="10246"/>
                  <a:pt x="6052" y="10308"/>
                  <a:pt x="5953" y="10418"/>
                </a:cubicBezTo>
                <a:cubicBezTo>
                  <a:pt x="6074" y="10366"/>
                  <a:pt x="6166" y="10311"/>
                  <a:pt x="6300" y="10294"/>
                </a:cubicBezTo>
              </a:path>
              <a:path w="5110" h="1985">
                <a:moveTo>
                  <a:pt x="7367" y="10021"/>
                </a:moveTo>
                <a:cubicBezTo>
                  <a:pt x="7321" y="10160"/>
                  <a:pt x="7304" y="10198"/>
                  <a:pt x="7317" y="10294"/>
                </a:cubicBezTo>
                <a:cubicBezTo>
                  <a:pt x="7469" y="10250"/>
                  <a:pt x="7585" y="10213"/>
                  <a:pt x="7689" y="10096"/>
                </a:cubicBezTo>
              </a:path>
              <a:path w="5110" h="1985">
                <a:moveTo>
                  <a:pt x="7565" y="9798"/>
                </a:moveTo>
                <a:cubicBezTo>
                  <a:pt x="7589" y="10095"/>
                  <a:pt x="7622" y="10394"/>
                  <a:pt x="7640" y="10691"/>
                </a:cubicBezTo>
              </a:path>
              <a:path w="5110" h="1985">
                <a:moveTo>
                  <a:pt x="4663" y="9798"/>
                </a:moveTo>
                <a:cubicBezTo>
                  <a:pt x="4882" y="10051"/>
                  <a:pt x="5185" y="10151"/>
                  <a:pt x="5457" y="10344"/>
                </a:cubicBezTo>
                <a:cubicBezTo>
                  <a:pt x="5791" y="10580"/>
                  <a:pt x="6086" y="10875"/>
                  <a:pt x="6350" y="11187"/>
                </a:cubicBezTo>
                <a:cubicBezTo>
                  <a:pt x="6367" y="11212"/>
                  <a:pt x="6383" y="11236"/>
                  <a:pt x="6400" y="11261"/>
                </a:cubicBezTo>
              </a:path>
              <a:path w="5110" h="1985">
                <a:moveTo>
                  <a:pt x="4663" y="11782"/>
                </a:moveTo>
                <a:cubicBezTo>
                  <a:pt x="4719" y="11634"/>
                  <a:pt x="4768" y="11600"/>
                  <a:pt x="4887" y="11485"/>
                </a:cubicBezTo>
                <a:cubicBezTo>
                  <a:pt x="5119" y="11261"/>
                  <a:pt x="5338" y="11026"/>
                  <a:pt x="5556" y="10790"/>
                </a:cubicBezTo>
                <a:cubicBezTo>
                  <a:pt x="5710" y="10623"/>
                  <a:pt x="5880" y="10483"/>
                  <a:pt x="6052" y="10344"/>
                </a:cubicBezTo>
                <a:cubicBezTo>
                  <a:pt x="6164" y="10253"/>
                  <a:pt x="6271" y="10175"/>
                  <a:pt x="6375" y="10071"/>
                </a:cubicBezTo>
                <a:cubicBezTo>
                  <a:pt x="6421" y="10024"/>
                  <a:pt x="6472" y="9990"/>
                  <a:pt x="6524" y="9947"/>
                </a:cubicBezTo>
                <a:cubicBezTo>
                  <a:pt x="6532" y="9939"/>
                  <a:pt x="6540" y="9930"/>
                  <a:pt x="6548" y="99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9040" y="4894200"/>
            <a:ext cx="2448000" cy="785880"/>
          </a:xfrm>
          <a:custGeom>
            <a:avLst/>
            <a:gdLst/>
            <a:ahLst/>
            <a:rect l="l" t="t" r="r" b="b"/>
            <a:pathLst>
              <a:path w="6797" h="2184">
                <a:moveTo>
                  <a:pt x="1166" y="13618"/>
                </a:moveTo>
                <a:cubicBezTo>
                  <a:pt x="1365" y="13635"/>
                  <a:pt x="1572" y="13591"/>
                  <a:pt x="1761" y="13618"/>
                </a:cubicBezTo>
              </a:path>
              <a:path w="6797" h="2184">
                <a:moveTo>
                  <a:pt x="1662" y="15776"/>
                </a:moveTo>
                <a:cubicBezTo>
                  <a:pt x="1919" y="15713"/>
                  <a:pt x="2129" y="15693"/>
                  <a:pt x="2406" y="15701"/>
                </a:cubicBezTo>
                <a:cubicBezTo>
                  <a:pt x="3239" y="15725"/>
                  <a:pt x="4052" y="15784"/>
                  <a:pt x="4887" y="15751"/>
                </a:cubicBezTo>
                <a:cubicBezTo>
                  <a:pt x="5853" y="15713"/>
                  <a:pt x="6821" y="15552"/>
                  <a:pt x="7789" y="15577"/>
                </a:cubicBezTo>
                <a:cubicBezTo>
                  <a:pt x="7847" y="15585"/>
                  <a:pt x="7904" y="15594"/>
                  <a:pt x="7962" y="156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5626080"/>
            <a:ext cx="2446200" cy="1044720"/>
          </a:xfrm>
          <a:custGeom>
            <a:avLst/>
            <a:gdLst/>
            <a:ahLst/>
            <a:rect l="l" t="t" r="r" b="b"/>
            <a:pathLst>
              <a:path w="6797" h="2903">
                <a:moveTo>
                  <a:pt x="5035" y="16272"/>
                </a:moveTo>
                <a:cubicBezTo>
                  <a:pt x="5107" y="16269"/>
                  <a:pt x="5397" y="16199"/>
                  <a:pt x="5432" y="16247"/>
                </a:cubicBezTo>
                <a:cubicBezTo>
                  <a:pt x="5522" y="16373"/>
                  <a:pt x="5394" y="16561"/>
                  <a:pt x="5333" y="16669"/>
                </a:cubicBezTo>
              </a:path>
              <a:path w="6797" h="2903">
                <a:moveTo>
                  <a:pt x="4713" y="17066"/>
                </a:moveTo>
                <a:cubicBezTo>
                  <a:pt x="4971" y="17027"/>
                  <a:pt x="5244" y="17007"/>
                  <a:pt x="5507" y="16991"/>
                </a:cubicBezTo>
                <a:cubicBezTo>
                  <a:pt x="5617" y="16991"/>
                  <a:pt x="5640" y="16964"/>
                  <a:pt x="5680" y="17016"/>
                </a:cubicBezTo>
              </a:path>
              <a:path w="6797" h="2903">
                <a:moveTo>
                  <a:pt x="4961" y="17462"/>
                </a:moveTo>
                <a:cubicBezTo>
                  <a:pt x="4948" y="17670"/>
                  <a:pt x="4908" y="17875"/>
                  <a:pt x="4887" y="18083"/>
                </a:cubicBezTo>
                <a:cubicBezTo>
                  <a:pt x="4887" y="18127"/>
                  <a:pt x="4884" y="18147"/>
                  <a:pt x="4911" y="18107"/>
                </a:cubicBezTo>
              </a:path>
              <a:path w="6797" h="2903">
                <a:moveTo>
                  <a:pt x="5383" y="17537"/>
                </a:moveTo>
                <a:cubicBezTo>
                  <a:pt x="5293" y="17725"/>
                  <a:pt x="5248" y="17828"/>
                  <a:pt x="5283" y="18033"/>
                </a:cubicBezTo>
                <a:cubicBezTo>
                  <a:pt x="5434" y="18008"/>
                  <a:pt x="5478" y="17883"/>
                  <a:pt x="5482" y="17735"/>
                </a:cubicBezTo>
                <a:cubicBezTo>
                  <a:pt x="5485" y="17620"/>
                  <a:pt x="5384" y="17624"/>
                  <a:pt x="5308" y="17611"/>
                </a:cubicBezTo>
              </a:path>
              <a:path w="6797" h="2903">
                <a:moveTo>
                  <a:pt x="3473" y="16718"/>
                </a:moveTo>
                <a:cubicBezTo>
                  <a:pt x="3294" y="16767"/>
                  <a:pt x="3278" y="16936"/>
                  <a:pt x="3225" y="17115"/>
                </a:cubicBezTo>
                <a:cubicBezTo>
                  <a:pt x="3189" y="17237"/>
                  <a:pt x="3109" y="17514"/>
                  <a:pt x="3200" y="17636"/>
                </a:cubicBezTo>
                <a:cubicBezTo>
                  <a:pt x="3258" y="17713"/>
                  <a:pt x="3415" y="17747"/>
                  <a:pt x="3497" y="17711"/>
                </a:cubicBezTo>
                <a:cubicBezTo>
                  <a:pt x="3638" y="17648"/>
                  <a:pt x="3698" y="17550"/>
                  <a:pt x="3746" y="17413"/>
                </a:cubicBezTo>
                <a:cubicBezTo>
                  <a:pt x="3793" y="17278"/>
                  <a:pt x="3719" y="17165"/>
                  <a:pt x="3671" y="17041"/>
                </a:cubicBezTo>
                <a:cubicBezTo>
                  <a:pt x="3620" y="16909"/>
                  <a:pt x="3623" y="16894"/>
                  <a:pt x="3522" y="16818"/>
                </a:cubicBezTo>
                <a:cubicBezTo>
                  <a:pt x="3470" y="16779"/>
                  <a:pt x="3411" y="16718"/>
                  <a:pt x="3349" y="16694"/>
                </a:cubicBezTo>
                <a:cubicBezTo>
                  <a:pt x="3341" y="16694"/>
                  <a:pt x="3332" y="16694"/>
                  <a:pt x="3324" y="16694"/>
                </a:cubicBezTo>
              </a:path>
              <a:path w="6797" h="2903">
                <a:moveTo>
                  <a:pt x="6573" y="17041"/>
                </a:moveTo>
                <a:cubicBezTo>
                  <a:pt x="6715" y="17041"/>
                  <a:pt x="6833" y="17052"/>
                  <a:pt x="6970" y="17090"/>
                </a:cubicBezTo>
              </a:path>
              <a:path w="6797" h="2903">
                <a:moveTo>
                  <a:pt x="6573" y="17338"/>
                </a:moveTo>
                <a:cubicBezTo>
                  <a:pt x="6678" y="17304"/>
                  <a:pt x="6735" y="17292"/>
                  <a:pt x="6821" y="17289"/>
                </a:cubicBezTo>
              </a:path>
              <a:path w="6797" h="2903">
                <a:moveTo>
                  <a:pt x="8037" y="16272"/>
                </a:moveTo>
                <a:cubicBezTo>
                  <a:pt x="8269" y="16216"/>
                  <a:pt x="8487" y="16130"/>
                  <a:pt x="8706" y="16197"/>
                </a:cubicBezTo>
                <a:cubicBezTo>
                  <a:pt x="8657" y="16444"/>
                  <a:pt x="8579" y="16659"/>
                  <a:pt x="8483" y="16892"/>
                </a:cubicBezTo>
              </a:path>
              <a:path w="6797" h="2903">
                <a:moveTo>
                  <a:pt x="8235" y="16991"/>
                </a:moveTo>
                <a:cubicBezTo>
                  <a:pt x="8500" y="16944"/>
                  <a:pt x="8763" y="16901"/>
                  <a:pt x="9029" y="16867"/>
                </a:cubicBezTo>
              </a:path>
              <a:path w="6797" h="2903">
                <a:moveTo>
                  <a:pt x="8260" y="17438"/>
                </a:moveTo>
                <a:cubicBezTo>
                  <a:pt x="8164" y="17668"/>
                  <a:pt x="8070" y="17897"/>
                  <a:pt x="7987" y="18132"/>
                </a:cubicBezTo>
              </a:path>
              <a:path w="6797" h="2903">
                <a:moveTo>
                  <a:pt x="8607" y="17537"/>
                </a:moveTo>
                <a:cubicBezTo>
                  <a:pt x="8523" y="17738"/>
                  <a:pt x="8486" y="17798"/>
                  <a:pt x="8508" y="18008"/>
                </a:cubicBezTo>
                <a:cubicBezTo>
                  <a:pt x="8680" y="17910"/>
                  <a:pt x="8992" y="17685"/>
                  <a:pt x="8781" y="17438"/>
                </a:cubicBezTo>
                <a:cubicBezTo>
                  <a:pt x="8740" y="17430"/>
                  <a:pt x="8698" y="17421"/>
                  <a:pt x="8657" y="17413"/>
                </a:cubicBezTo>
              </a:path>
              <a:path w="6797" h="2903">
                <a:moveTo>
                  <a:pt x="7392" y="18331"/>
                </a:moveTo>
                <a:cubicBezTo>
                  <a:pt x="7874" y="18558"/>
                  <a:pt x="8214" y="18490"/>
                  <a:pt x="8731" y="18331"/>
                </a:cubicBezTo>
                <a:cubicBezTo>
                  <a:pt x="9193" y="18189"/>
                  <a:pt x="9690" y="18019"/>
                  <a:pt x="9897" y="17537"/>
                </a:cubicBezTo>
                <a:cubicBezTo>
                  <a:pt x="10101" y="17061"/>
                  <a:pt x="9796" y="16317"/>
                  <a:pt x="9475" y="15949"/>
                </a:cubicBezTo>
                <a:cubicBezTo>
                  <a:pt x="9156" y="15584"/>
                  <a:pt x="8419" y="15549"/>
                  <a:pt x="7987" y="15677"/>
                </a:cubicBezTo>
                <a:cubicBezTo>
                  <a:pt x="7241" y="15898"/>
                  <a:pt x="7212" y="16632"/>
                  <a:pt x="7218" y="17289"/>
                </a:cubicBezTo>
                <a:cubicBezTo>
                  <a:pt x="7224" y="17983"/>
                  <a:pt x="7254" y="18145"/>
                  <a:pt x="7714" y="185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27160" y="3840120"/>
            <a:ext cx="946080" cy="339840"/>
          </a:xfrm>
          <a:custGeom>
            <a:avLst/>
            <a:gdLst/>
            <a:ahLst/>
            <a:rect l="l" t="t" r="r" b="b"/>
            <a:pathLst>
              <a:path w="2630" h="944">
                <a:moveTo>
                  <a:pt x="5631" y="10864"/>
                </a:moveTo>
                <a:cubicBezTo>
                  <a:pt x="5651" y="10967"/>
                  <a:pt x="5700" y="11026"/>
                  <a:pt x="5755" y="11112"/>
                </a:cubicBezTo>
              </a:path>
              <a:path w="2630" h="944">
                <a:moveTo>
                  <a:pt x="5804" y="10840"/>
                </a:moveTo>
                <a:cubicBezTo>
                  <a:pt x="5746" y="10916"/>
                  <a:pt x="5693" y="10990"/>
                  <a:pt x="5631" y="11063"/>
                </a:cubicBezTo>
              </a:path>
              <a:path w="2630" h="944">
                <a:moveTo>
                  <a:pt x="6722" y="10864"/>
                </a:moveTo>
                <a:cubicBezTo>
                  <a:pt x="6794" y="10843"/>
                  <a:pt x="6802" y="10840"/>
                  <a:pt x="6871" y="10840"/>
                </a:cubicBezTo>
              </a:path>
              <a:path w="2630" h="944">
                <a:moveTo>
                  <a:pt x="6796" y="11013"/>
                </a:moveTo>
                <a:cubicBezTo>
                  <a:pt x="6888" y="10990"/>
                  <a:pt x="6913" y="10984"/>
                  <a:pt x="6970" y="10964"/>
                </a:cubicBezTo>
              </a:path>
              <a:path w="2630" h="944">
                <a:moveTo>
                  <a:pt x="6102" y="10864"/>
                </a:moveTo>
                <a:cubicBezTo>
                  <a:pt x="6133" y="10792"/>
                  <a:pt x="6137" y="10800"/>
                  <a:pt x="6226" y="10790"/>
                </a:cubicBezTo>
                <a:cubicBezTo>
                  <a:pt x="6313" y="10941"/>
                  <a:pt x="6235" y="11045"/>
                  <a:pt x="6152" y="11187"/>
                </a:cubicBezTo>
                <a:cubicBezTo>
                  <a:pt x="6108" y="11252"/>
                  <a:pt x="6097" y="11266"/>
                  <a:pt x="6077" y="11311"/>
                </a:cubicBezTo>
                <a:cubicBezTo>
                  <a:pt x="6200" y="11284"/>
                  <a:pt x="6305" y="11255"/>
                  <a:pt x="6424" y="11212"/>
                </a:cubicBezTo>
              </a:path>
              <a:path w="2630" h="944">
                <a:moveTo>
                  <a:pt x="7094" y="10765"/>
                </a:moveTo>
                <a:cubicBezTo>
                  <a:pt x="7365" y="10702"/>
                  <a:pt x="7635" y="10679"/>
                  <a:pt x="7913" y="10666"/>
                </a:cubicBezTo>
                <a:cubicBezTo>
                  <a:pt x="8028" y="10661"/>
                  <a:pt x="8145" y="10666"/>
                  <a:pt x="8260" y="10666"/>
                </a:cubicBezTo>
              </a:path>
              <a:path w="2630" h="944">
                <a:moveTo>
                  <a:pt x="7466" y="10939"/>
                </a:moveTo>
                <a:cubicBezTo>
                  <a:pt x="7389" y="10913"/>
                  <a:pt x="7379" y="11401"/>
                  <a:pt x="7367" y="11485"/>
                </a:cubicBezTo>
                <a:cubicBezTo>
                  <a:pt x="7359" y="11526"/>
                  <a:pt x="7350" y="11568"/>
                  <a:pt x="7342" y="11609"/>
                </a:cubicBezTo>
              </a:path>
              <a:path w="2630" h="944">
                <a:moveTo>
                  <a:pt x="7813" y="10914"/>
                </a:moveTo>
                <a:cubicBezTo>
                  <a:pt x="7735" y="11149"/>
                  <a:pt x="7671" y="11301"/>
                  <a:pt x="7789" y="11509"/>
                </a:cubicBezTo>
                <a:cubicBezTo>
                  <a:pt x="7919" y="11428"/>
                  <a:pt x="8209" y="11191"/>
                  <a:pt x="7938" y="11038"/>
                </a:cubicBezTo>
                <a:cubicBezTo>
                  <a:pt x="7880" y="11030"/>
                  <a:pt x="7822" y="11021"/>
                  <a:pt x="7764" y="110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91240" y="133200"/>
            <a:ext cx="1073160" cy="1536840"/>
          </a:xfrm>
          <a:custGeom>
            <a:avLst/>
            <a:gdLst/>
            <a:ahLst/>
            <a:rect l="l" t="t" r="r" b="b"/>
            <a:pathLst>
              <a:path w="2978" h="4267">
                <a:moveTo>
                  <a:pt x="21903" y="1141"/>
                </a:moveTo>
                <a:cubicBezTo>
                  <a:pt x="21903" y="1182"/>
                  <a:pt x="21903" y="1224"/>
                  <a:pt x="21903" y="1265"/>
                </a:cubicBezTo>
                <a:cubicBezTo>
                  <a:pt x="21843" y="1443"/>
                  <a:pt x="21976" y="1010"/>
                  <a:pt x="22151" y="1265"/>
                </a:cubicBezTo>
                <a:cubicBezTo>
                  <a:pt x="22444" y="1690"/>
                  <a:pt x="22203" y="2165"/>
                  <a:pt x="21779" y="2356"/>
                </a:cubicBezTo>
                <a:cubicBezTo>
                  <a:pt x="21737" y="2356"/>
                  <a:pt x="21696" y="2356"/>
                  <a:pt x="21654" y="2356"/>
                </a:cubicBezTo>
                <a:cubicBezTo>
                  <a:pt x="21718" y="2145"/>
                  <a:pt x="21854" y="1708"/>
                  <a:pt x="22175" y="1910"/>
                </a:cubicBezTo>
                <a:cubicBezTo>
                  <a:pt x="22286" y="2044"/>
                  <a:pt x="22320" y="2075"/>
                  <a:pt x="22349" y="2183"/>
                </a:cubicBezTo>
              </a:path>
              <a:path w="2978" h="4267">
                <a:moveTo>
                  <a:pt x="22473" y="1240"/>
                </a:moveTo>
                <a:cubicBezTo>
                  <a:pt x="22500" y="1386"/>
                  <a:pt x="22476" y="1632"/>
                  <a:pt x="22622" y="1687"/>
                </a:cubicBezTo>
                <a:cubicBezTo>
                  <a:pt x="22759" y="1715"/>
                  <a:pt x="22813" y="1717"/>
                  <a:pt x="22895" y="1637"/>
                </a:cubicBezTo>
              </a:path>
              <a:path w="2978" h="4267">
                <a:moveTo>
                  <a:pt x="22820" y="918"/>
                </a:moveTo>
                <a:cubicBezTo>
                  <a:pt x="22792" y="1356"/>
                  <a:pt x="22796" y="1793"/>
                  <a:pt x="22796" y="2232"/>
                </a:cubicBezTo>
                <a:cubicBezTo>
                  <a:pt x="22796" y="2290"/>
                  <a:pt x="22796" y="2348"/>
                  <a:pt x="22796" y="2406"/>
                </a:cubicBezTo>
              </a:path>
              <a:path w="2978" h="4267">
                <a:moveTo>
                  <a:pt x="20861" y="2877"/>
                </a:moveTo>
                <a:cubicBezTo>
                  <a:pt x="21062" y="2846"/>
                  <a:pt x="21275" y="2839"/>
                  <a:pt x="21481" y="2828"/>
                </a:cubicBezTo>
              </a:path>
              <a:path w="2978" h="4267">
                <a:moveTo>
                  <a:pt x="22200" y="2679"/>
                </a:moveTo>
                <a:cubicBezTo>
                  <a:pt x="22211" y="2970"/>
                  <a:pt x="22252" y="3257"/>
                  <a:pt x="22275" y="3547"/>
                </a:cubicBezTo>
                <a:cubicBezTo>
                  <a:pt x="22275" y="3572"/>
                  <a:pt x="22275" y="3596"/>
                  <a:pt x="22275" y="3621"/>
                </a:cubicBezTo>
              </a:path>
              <a:path w="2978" h="4267">
                <a:moveTo>
                  <a:pt x="22671" y="2704"/>
                </a:moveTo>
                <a:cubicBezTo>
                  <a:pt x="22827" y="2652"/>
                  <a:pt x="22985" y="2694"/>
                  <a:pt x="23143" y="2753"/>
                </a:cubicBezTo>
                <a:cubicBezTo>
                  <a:pt x="23367" y="2837"/>
                  <a:pt x="23171" y="3216"/>
                  <a:pt x="23143" y="3349"/>
                </a:cubicBezTo>
                <a:cubicBezTo>
                  <a:pt x="23125" y="3473"/>
                  <a:pt x="23117" y="3480"/>
                  <a:pt x="23118" y="3547"/>
                </a:cubicBezTo>
              </a:path>
              <a:path w="2978" h="4267">
                <a:moveTo>
                  <a:pt x="20811" y="3894"/>
                </a:moveTo>
                <a:cubicBezTo>
                  <a:pt x="21537" y="3727"/>
                  <a:pt x="22270" y="3646"/>
                  <a:pt x="23019" y="3646"/>
                </a:cubicBezTo>
                <a:cubicBezTo>
                  <a:pt x="23255" y="3646"/>
                  <a:pt x="23542" y="3666"/>
                  <a:pt x="23788" y="3671"/>
                </a:cubicBezTo>
              </a:path>
              <a:path w="2978" h="4267">
                <a:moveTo>
                  <a:pt x="22250" y="670"/>
                </a:moveTo>
                <a:cubicBezTo>
                  <a:pt x="22180" y="1016"/>
                  <a:pt x="22016" y="1325"/>
                  <a:pt x="21853" y="1637"/>
                </a:cubicBezTo>
                <a:cubicBezTo>
                  <a:pt x="21757" y="1821"/>
                  <a:pt x="21576" y="2012"/>
                  <a:pt x="21506" y="2208"/>
                </a:cubicBezTo>
                <a:cubicBezTo>
                  <a:pt x="21506" y="2216"/>
                  <a:pt x="21506" y="2224"/>
                  <a:pt x="21506" y="2232"/>
                </a:cubicBezTo>
              </a:path>
              <a:path w="2978" h="4267">
                <a:moveTo>
                  <a:pt x="21679" y="397"/>
                </a:moveTo>
                <a:cubicBezTo>
                  <a:pt x="21671" y="389"/>
                  <a:pt x="21662" y="380"/>
                  <a:pt x="21654" y="372"/>
                </a:cubicBezTo>
                <a:cubicBezTo>
                  <a:pt x="21633" y="546"/>
                  <a:pt x="21633" y="719"/>
                  <a:pt x="21605" y="893"/>
                </a:cubicBezTo>
                <a:cubicBezTo>
                  <a:pt x="21596" y="951"/>
                  <a:pt x="21573" y="1058"/>
                  <a:pt x="21580" y="1091"/>
                </a:cubicBezTo>
                <a:cubicBezTo>
                  <a:pt x="21588" y="1108"/>
                  <a:pt x="21597" y="1124"/>
                  <a:pt x="21605" y="1141"/>
                </a:cubicBezTo>
              </a:path>
              <a:path w="2978" h="4267">
                <a:moveTo>
                  <a:pt x="22994" y="3969"/>
                </a:moveTo>
                <a:cubicBezTo>
                  <a:pt x="23152" y="3985"/>
                  <a:pt x="23304" y="3994"/>
                  <a:pt x="23465" y="3994"/>
                </a:cubicBezTo>
                <a:cubicBezTo>
                  <a:pt x="23498" y="3994"/>
                  <a:pt x="23531" y="3994"/>
                  <a:pt x="23564" y="3994"/>
                </a:cubicBezTo>
                <a:cubicBezTo>
                  <a:pt x="23519" y="4214"/>
                  <a:pt x="23440" y="4404"/>
                  <a:pt x="23366" y="4614"/>
                </a:cubicBezTo>
                <a:cubicBezTo>
                  <a:pt x="23366" y="4622"/>
                  <a:pt x="23366" y="4630"/>
                  <a:pt x="23366" y="46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108000"/>
            <a:ext cx="830520" cy="338040"/>
          </a:xfrm>
          <a:custGeom>
            <a:avLst/>
            <a:gdLst/>
            <a:ahLst/>
            <a:rect l="l" t="t" r="r" b="b"/>
            <a:pathLst>
              <a:path w="2308" h="943">
                <a:moveTo>
                  <a:pt x="22696" y="322"/>
                </a:moveTo>
                <a:cubicBezTo>
                  <a:pt x="22680" y="456"/>
                  <a:pt x="22671" y="588"/>
                  <a:pt x="22647" y="719"/>
                </a:cubicBezTo>
              </a:path>
              <a:path w="2308" h="943">
                <a:moveTo>
                  <a:pt x="22969" y="372"/>
                </a:moveTo>
                <a:cubicBezTo>
                  <a:pt x="22915" y="474"/>
                  <a:pt x="22885" y="555"/>
                  <a:pt x="22870" y="670"/>
                </a:cubicBezTo>
                <a:cubicBezTo>
                  <a:pt x="23007" y="670"/>
                  <a:pt x="23209" y="695"/>
                  <a:pt x="23217" y="496"/>
                </a:cubicBezTo>
                <a:cubicBezTo>
                  <a:pt x="23221" y="397"/>
                  <a:pt x="22977" y="425"/>
                  <a:pt x="22920" y="422"/>
                </a:cubicBezTo>
              </a:path>
              <a:path w="2308" h="943">
                <a:moveTo>
                  <a:pt x="23440" y="446"/>
                </a:moveTo>
                <a:cubicBezTo>
                  <a:pt x="23448" y="555"/>
                  <a:pt x="23465" y="659"/>
                  <a:pt x="23465" y="769"/>
                </a:cubicBezTo>
              </a:path>
              <a:path w="2308" h="943">
                <a:moveTo>
                  <a:pt x="23292" y="645"/>
                </a:moveTo>
                <a:cubicBezTo>
                  <a:pt x="23381" y="612"/>
                  <a:pt x="23471" y="592"/>
                  <a:pt x="23564" y="571"/>
                </a:cubicBezTo>
              </a:path>
              <a:path w="2308" h="943">
                <a:moveTo>
                  <a:pt x="23713" y="422"/>
                </a:moveTo>
                <a:cubicBezTo>
                  <a:pt x="23713" y="583"/>
                  <a:pt x="23733" y="636"/>
                  <a:pt x="23912" y="595"/>
                </a:cubicBezTo>
                <a:cubicBezTo>
                  <a:pt x="23976" y="564"/>
                  <a:pt x="23996" y="540"/>
                  <a:pt x="23986" y="471"/>
                </a:cubicBezTo>
              </a:path>
              <a:path w="2308" h="943">
                <a:moveTo>
                  <a:pt x="23961" y="298"/>
                </a:moveTo>
                <a:cubicBezTo>
                  <a:pt x="23932" y="427"/>
                  <a:pt x="23904" y="633"/>
                  <a:pt x="23912" y="769"/>
                </a:cubicBezTo>
                <a:cubicBezTo>
                  <a:pt x="23920" y="794"/>
                  <a:pt x="23929" y="818"/>
                  <a:pt x="23937" y="843"/>
                </a:cubicBezTo>
              </a:path>
              <a:path w="2308" h="943">
                <a:moveTo>
                  <a:pt x="23862" y="595"/>
                </a:moveTo>
                <a:cubicBezTo>
                  <a:pt x="23952" y="565"/>
                  <a:pt x="24025" y="550"/>
                  <a:pt x="24110" y="521"/>
                </a:cubicBezTo>
              </a:path>
              <a:path w="2308" h="943">
                <a:moveTo>
                  <a:pt x="23837" y="744"/>
                </a:moveTo>
                <a:cubicBezTo>
                  <a:pt x="23943" y="744"/>
                  <a:pt x="24032" y="720"/>
                  <a:pt x="24135" y="695"/>
                </a:cubicBezTo>
              </a:path>
              <a:path w="2308" h="943">
                <a:moveTo>
                  <a:pt x="24433" y="571"/>
                </a:moveTo>
                <a:cubicBezTo>
                  <a:pt x="24412" y="770"/>
                  <a:pt x="24373" y="964"/>
                  <a:pt x="24358" y="1166"/>
                </a:cubicBezTo>
                <a:cubicBezTo>
                  <a:pt x="24358" y="1191"/>
                  <a:pt x="24358" y="1215"/>
                  <a:pt x="24358" y="1240"/>
                </a:cubicBezTo>
              </a:path>
              <a:path w="2308" h="943">
                <a:moveTo>
                  <a:pt x="24631" y="645"/>
                </a:moveTo>
                <a:cubicBezTo>
                  <a:pt x="24608" y="749"/>
                  <a:pt x="24583" y="850"/>
                  <a:pt x="24606" y="943"/>
                </a:cubicBezTo>
                <a:cubicBezTo>
                  <a:pt x="24730" y="955"/>
                  <a:pt x="24829" y="950"/>
                  <a:pt x="24954" y="943"/>
                </a:cubicBezTo>
              </a:path>
              <a:path w="2308" h="943">
                <a:moveTo>
                  <a:pt x="24929" y="571"/>
                </a:moveTo>
                <a:cubicBezTo>
                  <a:pt x="24864" y="781"/>
                  <a:pt x="24814" y="952"/>
                  <a:pt x="24829" y="1166"/>
                </a:cubicBezTo>
                <a:cubicBezTo>
                  <a:pt x="24829" y="1182"/>
                  <a:pt x="24829" y="1199"/>
                  <a:pt x="24829" y="12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82960" y="3295800"/>
            <a:ext cx="1366920" cy="963360"/>
          </a:xfrm>
          <a:custGeom>
            <a:avLst/>
            <a:gdLst/>
            <a:ahLst/>
            <a:rect l="l" t="t" r="r" b="b"/>
            <a:pathLst>
              <a:path w="3796" h="2680">
                <a:moveTo>
                  <a:pt x="8731" y="10468"/>
                </a:moveTo>
                <a:cubicBezTo>
                  <a:pt x="8731" y="10641"/>
                  <a:pt x="8731" y="10815"/>
                  <a:pt x="8731" y="10988"/>
                </a:cubicBezTo>
              </a:path>
              <a:path w="3796" h="2680">
                <a:moveTo>
                  <a:pt x="8607" y="10716"/>
                </a:moveTo>
                <a:cubicBezTo>
                  <a:pt x="8704" y="10667"/>
                  <a:pt x="8734" y="10651"/>
                  <a:pt x="8806" y="10641"/>
                </a:cubicBezTo>
              </a:path>
              <a:path w="3796" h="2680">
                <a:moveTo>
                  <a:pt x="8905" y="9947"/>
                </a:moveTo>
                <a:cubicBezTo>
                  <a:pt x="8978" y="10183"/>
                  <a:pt x="9045" y="10417"/>
                  <a:pt x="9079" y="10666"/>
                </a:cubicBezTo>
                <a:cubicBezTo>
                  <a:pt x="9119" y="10959"/>
                  <a:pt x="9147" y="11264"/>
                  <a:pt x="9153" y="11559"/>
                </a:cubicBezTo>
                <a:cubicBezTo>
                  <a:pt x="9154" y="11617"/>
                  <a:pt x="9153" y="11675"/>
                  <a:pt x="9153" y="11733"/>
                </a:cubicBezTo>
                <a:cubicBezTo>
                  <a:pt x="9388" y="11701"/>
                  <a:pt x="9609" y="11599"/>
                  <a:pt x="9847" y="11559"/>
                </a:cubicBezTo>
                <a:cubicBezTo>
                  <a:pt x="10018" y="11530"/>
                  <a:pt x="10197" y="11508"/>
                  <a:pt x="10368" y="11485"/>
                </a:cubicBezTo>
                <a:cubicBezTo>
                  <a:pt x="10376" y="11485"/>
                  <a:pt x="10385" y="11485"/>
                  <a:pt x="10393" y="11485"/>
                </a:cubicBezTo>
                <a:cubicBezTo>
                  <a:pt x="10215" y="11270"/>
                  <a:pt x="10144" y="11029"/>
                  <a:pt x="10046" y="10765"/>
                </a:cubicBezTo>
                <a:cubicBezTo>
                  <a:pt x="9943" y="10489"/>
                  <a:pt x="9783" y="10229"/>
                  <a:pt x="9699" y="9947"/>
                </a:cubicBezTo>
                <a:cubicBezTo>
                  <a:pt x="9658" y="9809"/>
                  <a:pt x="9619" y="9689"/>
                  <a:pt x="9599" y="9550"/>
                </a:cubicBezTo>
                <a:cubicBezTo>
                  <a:pt x="9589" y="9483"/>
                  <a:pt x="9574" y="9365"/>
                  <a:pt x="9550" y="9302"/>
                </a:cubicBezTo>
                <a:cubicBezTo>
                  <a:pt x="9504" y="9233"/>
                  <a:pt x="9492" y="9213"/>
                  <a:pt x="9451" y="9178"/>
                </a:cubicBezTo>
                <a:cubicBezTo>
                  <a:pt x="9363" y="9213"/>
                  <a:pt x="9147" y="9331"/>
                  <a:pt x="9029" y="9401"/>
                </a:cubicBezTo>
                <a:cubicBezTo>
                  <a:pt x="8806" y="9532"/>
                  <a:pt x="8554" y="9644"/>
                  <a:pt x="8384" y="9847"/>
                </a:cubicBezTo>
                <a:cubicBezTo>
                  <a:pt x="8349" y="9889"/>
                  <a:pt x="8326" y="9969"/>
                  <a:pt x="8310" y="10021"/>
                </a:cubicBezTo>
                <a:cubicBezTo>
                  <a:pt x="8310" y="10064"/>
                  <a:pt x="8304" y="10089"/>
                  <a:pt x="8285" y="10120"/>
                </a:cubicBezTo>
                <a:cubicBezTo>
                  <a:pt x="8472" y="10105"/>
                  <a:pt x="8645" y="10049"/>
                  <a:pt x="8830" y="10021"/>
                </a:cubicBezTo>
                <a:cubicBezTo>
                  <a:pt x="8863" y="10021"/>
                  <a:pt x="8897" y="10021"/>
                  <a:pt x="8930" y="10021"/>
                </a:cubicBezTo>
              </a:path>
              <a:path w="3796" h="2680">
                <a:moveTo>
                  <a:pt x="9203" y="10790"/>
                </a:moveTo>
                <a:cubicBezTo>
                  <a:pt x="9317" y="10790"/>
                  <a:pt x="9446" y="10771"/>
                  <a:pt x="9550" y="10815"/>
                </a:cubicBezTo>
                <a:cubicBezTo>
                  <a:pt x="9619" y="10844"/>
                  <a:pt x="9671" y="10840"/>
                  <a:pt x="9748" y="10840"/>
                </a:cubicBezTo>
                <a:cubicBezTo>
                  <a:pt x="9807" y="10840"/>
                  <a:pt x="9805" y="10833"/>
                  <a:pt x="9847" y="10864"/>
                </a:cubicBezTo>
              </a:path>
              <a:path w="3796" h="2680">
                <a:moveTo>
                  <a:pt x="9475" y="11063"/>
                </a:moveTo>
                <a:cubicBezTo>
                  <a:pt x="9475" y="11030"/>
                  <a:pt x="9475" y="11013"/>
                  <a:pt x="9475" y="10988"/>
                </a:cubicBezTo>
                <a:cubicBezTo>
                  <a:pt x="9450" y="11120"/>
                  <a:pt x="9426" y="11253"/>
                  <a:pt x="9401" y="11385"/>
                </a:cubicBezTo>
              </a:path>
              <a:path w="3796" h="2680">
                <a:moveTo>
                  <a:pt x="9674" y="11063"/>
                </a:moveTo>
                <a:cubicBezTo>
                  <a:pt x="9643" y="11169"/>
                  <a:pt x="9634" y="11231"/>
                  <a:pt x="9649" y="11336"/>
                </a:cubicBezTo>
                <a:cubicBezTo>
                  <a:pt x="9709" y="11319"/>
                  <a:pt x="9834" y="11206"/>
                  <a:pt x="9773" y="11112"/>
                </a:cubicBezTo>
                <a:cubicBezTo>
                  <a:pt x="9706" y="11090"/>
                  <a:pt x="9688" y="11086"/>
                  <a:pt x="9649" y="11063"/>
                </a:cubicBezTo>
              </a:path>
              <a:path w="3796" h="2680">
                <a:moveTo>
                  <a:pt x="9277" y="10344"/>
                </a:moveTo>
                <a:cubicBezTo>
                  <a:pt x="9256" y="10445"/>
                  <a:pt x="9216" y="10533"/>
                  <a:pt x="9203" y="10641"/>
                </a:cubicBezTo>
              </a:path>
              <a:path w="3796" h="2680">
                <a:moveTo>
                  <a:pt x="9475" y="10319"/>
                </a:moveTo>
                <a:cubicBezTo>
                  <a:pt x="9469" y="10403"/>
                  <a:pt x="9457" y="10483"/>
                  <a:pt x="9451" y="10567"/>
                </a:cubicBezTo>
                <a:cubicBezTo>
                  <a:pt x="9544" y="10543"/>
                  <a:pt x="9722" y="10400"/>
                  <a:pt x="9550" y="10294"/>
                </a:cubicBezTo>
                <a:cubicBezTo>
                  <a:pt x="9517" y="10294"/>
                  <a:pt x="9484" y="10294"/>
                  <a:pt x="9451" y="10294"/>
                </a:cubicBezTo>
              </a:path>
              <a:path w="3796" h="2680">
                <a:moveTo>
                  <a:pt x="10393" y="10641"/>
                </a:moveTo>
                <a:cubicBezTo>
                  <a:pt x="10490" y="10597"/>
                  <a:pt x="10532" y="10592"/>
                  <a:pt x="10641" y="10592"/>
                </a:cubicBezTo>
              </a:path>
              <a:path w="3796" h="2680">
                <a:moveTo>
                  <a:pt x="10418" y="10864"/>
                </a:moveTo>
                <a:cubicBezTo>
                  <a:pt x="10512" y="10864"/>
                  <a:pt x="10598" y="10849"/>
                  <a:pt x="10691" y="10840"/>
                </a:cubicBezTo>
              </a:path>
              <a:path w="3796" h="2680">
                <a:moveTo>
                  <a:pt x="11162" y="10294"/>
                </a:moveTo>
                <a:cubicBezTo>
                  <a:pt x="11233" y="10469"/>
                  <a:pt x="11192" y="10623"/>
                  <a:pt x="11187" y="10815"/>
                </a:cubicBezTo>
                <a:cubicBezTo>
                  <a:pt x="11187" y="10840"/>
                  <a:pt x="11187" y="10864"/>
                  <a:pt x="11187" y="10889"/>
                </a:cubicBezTo>
              </a:path>
              <a:path w="3796" h="2680">
                <a:moveTo>
                  <a:pt x="11485" y="10269"/>
                </a:moveTo>
                <a:cubicBezTo>
                  <a:pt x="11485" y="10372"/>
                  <a:pt x="11473" y="10479"/>
                  <a:pt x="11509" y="10567"/>
                </a:cubicBezTo>
                <a:cubicBezTo>
                  <a:pt x="11595" y="10554"/>
                  <a:pt x="11652" y="10533"/>
                  <a:pt x="11733" y="10492"/>
                </a:cubicBezTo>
              </a:path>
              <a:path w="3796" h="2680">
                <a:moveTo>
                  <a:pt x="11708" y="10244"/>
                </a:moveTo>
                <a:cubicBezTo>
                  <a:pt x="11678" y="10467"/>
                  <a:pt x="11645" y="10690"/>
                  <a:pt x="11633" y="10914"/>
                </a:cubicBezTo>
              </a:path>
              <a:path w="3796" h="2680">
                <a:moveTo>
                  <a:pt x="11137" y="11063"/>
                </a:moveTo>
                <a:cubicBezTo>
                  <a:pt x="11349" y="11039"/>
                  <a:pt x="11571" y="11023"/>
                  <a:pt x="11782" y="10988"/>
                </a:cubicBezTo>
                <a:cubicBezTo>
                  <a:pt x="11955" y="10950"/>
                  <a:pt x="11978" y="10934"/>
                  <a:pt x="12080" y="10939"/>
                </a:cubicBezTo>
              </a:path>
              <a:path w="3796" h="2680">
                <a:moveTo>
                  <a:pt x="11336" y="11261"/>
                </a:moveTo>
                <a:cubicBezTo>
                  <a:pt x="11306" y="11455"/>
                  <a:pt x="11231" y="11640"/>
                  <a:pt x="11187" y="11832"/>
                </a:cubicBezTo>
              </a:path>
              <a:path w="3796" h="2680">
                <a:moveTo>
                  <a:pt x="11609" y="11237"/>
                </a:moveTo>
                <a:cubicBezTo>
                  <a:pt x="11569" y="11426"/>
                  <a:pt x="11520" y="11567"/>
                  <a:pt x="11559" y="11757"/>
                </a:cubicBezTo>
                <a:cubicBezTo>
                  <a:pt x="11701" y="11729"/>
                  <a:pt x="11885" y="11608"/>
                  <a:pt x="11807" y="11410"/>
                </a:cubicBezTo>
                <a:cubicBezTo>
                  <a:pt x="11717" y="11320"/>
                  <a:pt x="11696" y="11290"/>
                  <a:pt x="11609" y="112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91000" y="4116240"/>
            <a:ext cx="920880" cy="679680"/>
          </a:xfrm>
          <a:custGeom>
            <a:avLst/>
            <a:gdLst/>
            <a:ahLst/>
            <a:rect l="l" t="t" r="r" b="b"/>
            <a:pathLst>
              <a:path w="2556" h="1886">
                <a:moveTo>
                  <a:pt x="13593" y="11733"/>
                </a:moveTo>
                <a:lnTo>
                  <a:pt x="13593" y="11733"/>
                </a:lnTo>
              </a:path>
              <a:path w="2556" h="1886">
                <a:moveTo>
                  <a:pt x="12477" y="12502"/>
                </a:moveTo>
                <a:cubicBezTo>
                  <a:pt x="12580" y="12570"/>
                  <a:pt x="12625" y="12534"/>
                  <a:pt x="12750" y="12526"/>
                </a:cubicBezTo>
                <a:cubicBezTo>
                  <a:pt x="12758" y="12526"/>
                  <a:pt x="12766" y="12526"/>
                  <a:pt x="12774" y="12526"/>
                </a:cubicBezTo>
              </a:path>
              <a:path w="2556" h="1886">
                <a:moveTo>
                  <a:pt x="12477" y="12824"/>
                </a:moveTo>
                <a:cubicBezTo>
                  <a:pt x="12612" y="12824"/>
                  <a:pt x="12741" y="12808"/>
                  <a:pt x="12874" y="12799"/>
                </a:cubicBezTo>
              </a:path>
              <a:path w="2556" h="1886">
                <a:moveTo>
                  <a:pt x="13692" y="12402"/>
                </a:moveTo>
                <a:cubicBezTo>
                  <a:pt x="13950" y="12517"/>
                  <a:pt x="14294" y="12412"/>
                  <a:pt x="14560" y="12353"/>
                </a:cubicBezTo>
                <a:cubicBezTo>
                  <a:pt x="14733" y="12315"/>
                  <a:pt x="14861" y="12268"/>
                  <a:pt x="15032" y="12254"/>
                </a:cubicBezTo>
              </a:path>
              <a:path w="2556" h="1886">
                <a:moveTo>
                  <a:pt x="14114" y="12626"/>
                </a:moveTo>
                <a:cubicBezTo>
                  <a:pt x="14245" y="12592"/>
                  <a:pt x="14170" y="12997"/>
                  <a:pt x="14163" y="13072"/>
                </a:cubicBezTo>
                <a:cubicBezTo>
                  <a:pt x="14145" y="13223"/>
                  <a:pt x="14159" y="13246"/>
                  <a:pt x="14114" y="13320"/>
                </a:cubicBezTo>
              </a:path>
              <a:path w="2556" h="1886">
                <a:moveTo>
                  <a:pt x="14635" y="12601"/>
                </a:moveTo>
                <a:cubicBezTo>
                  <a:pt x="14584" y="12778"/>
                  <a:pt x="14553" y="12894"/>
                  <a:pt x="14560" y="13072"/>
                </a:cubicBezTo>
                <a:cubicBezTo>
                  <a:pt x="14762" y="13058"/>
                  <a:pt x="14907" y="12878"/>
                  <a:pt x="14784" y="12650"/>
                </a:cubicBezTo>
                <a:cubicBezTo>
                  <a:pt x="14675" y="12570"/>
                  <a:pt x="14632" y="12548"/>
                  <a:pt x="14536" y="12626"/>
                </a:cubicBezTo>
              </a:path>
              <a:path w="2556" h="1886">
                <a:moveTo>
                  <a:pt x="13915" y="11509"/>
                </a:moveTo>
                <a:cubicBezTo>
                  <a:pt x="14112" y="11527"/>
                  <a:pt x="14247" y="11498"/>
                  <a:pt x="14436" y="11435"/>
                </a:cubicBezTo>
                <a:cubicBezTo>
                  <a:pt x="14373" y="11710"/>
                  <a:pt x="14270" y="11961"/>
                  <a:pt x="14188" y="12229"/>
                </a:cubicBezTo>
                <a:cubicBezTo>
                  <a:pt x="14188" y="12237"/>
                  <a:pt x="14188" y="12246"/>
                  <a:pt x="14188" y="122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subtract fractions and mixed numb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99920" y="16765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371600" y="2666880"/>
                <a:ext cx="12952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800600" y="2732040"/>
                <a:ext cx="121932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9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1347840" y="3268800"/>
            <a:ext cx="2867040" cy="1839600"/>
          </a:xfrm>
          <a:custGeom>
            <a:avLst/>
            <a:gdLst/>
            <a:ahLst/>
            <a:rect l="l" t="t" r="r" b="b"/>
            <a:pathLst>
              <a:path w="7963" h="5110">
                <a:moveTo>
                  <a:pt x="4688" y="10964"/>
                </a:moveTo>
                <a:cubicBezTo>
                  <a:pt x="4872" y="10943"/>
                  <a:pt x="5048" y="10939"/>
                  <a:pt x="5234" y="10939"/>
                </a:cubicBezTo>
                <a:cubicBezTo>
                  <a:pt x="5242" y="10939"/>
                  <a:pt x="5251" y="10939"/>
                  <a:pt x="5259" y="10939"/>
                </a:cubicBezTo>
                <a:cubicBezTo>
                  <a:pt x="5209" y="11186"/>
                  <a:pt x="5102" y="11431"/>
                  <a:pt x="4986" y="11658"/>
                </a:cubicBezTo>
                <a:cubicBezTo>
                  <a:pt x="4969" y="11683"/>
                  <a:pt x="4953" y="11708"/>
                  <a:pt x="4936" y="11733"/>
                </a:cubicBezTo>
              </a:path>
              <a:path w="7963" h="5110">
                <a:moveTo>
                  <a:pt x="6127" y="10269"/>
                </a:moveTo>
                <a:cubicBezTo>
                  <a:pt x="6107" y="10419"/>
                  <a:pt x="6097" y="10566"/>
                  <a:pt x="6077" y="10716"/>
                </a:cubicBezTo>
              </a:path>
              <a:path w="7963" h="5110">
                <a:moveTo>
                  <a:pt x="5829" y="10815"/>
                </a:moveTo>
                <a:cubicBezTo>
                  <a:pt x="5987" y="10793"/>
                  <a:pt x="6141" y="10773"/>
                  <a:pt x="6300" y="10765"/>
                </a:cubicBezTo>
              </a:path>
              <a:path w="7963" h="5110">
                <a:moveTo>
                  <a:pt x="5879" y="11038"/>
                </a:moveTo>
                <a:cubicBezTo>
                  <a:pt x="6013" y="11002"/>
                  <a:pt x="6119" y="10973"/>
                  <a:pt x="6251" y="11013"/>
                </a:cubicBezTo>
                <a:cubicBezTo>
                  <a:pt x="6189" y="11186"/>
                  <a:pt x="6025" y="11290"/>
                  <a:pt x="5904" y="11435"/>
                </a:cubicBezTo>
                <a:cubicBezTo>
                  <a:pt x="5879" y="11468"/>
                  <a:pt x="5854" y="11501"/>
                  <a:pt x="5829" y="11534"/>
                </a:cubicBezTo>
                <a:cubicBezTo>
                  <a:pt x="5947" y="11559"/>
                  <a:pt x="6054" y="11559"/>
                  <a:pt x="6176" y="11559"/>
                </a:cubicBezTo>
              </a:path>
              <a:path w="7963" h="5110">
                <a:moveTo>
                  <a:pt x="3746" y="12502"/>
                </a:moveTo>
                <a:cubicBezTo>
                  <a:pt x="3812" y="12522"/>
                  <a:pt x="3876" y="12541"/>
                  <a:pt x="3944" y="12551"/>
                </a:cubicBezTo>
              </a:path>
              <a:path w="7963" h="5110">
                <a:moveTo>
                  <a:pt x="4911" y="12278"/>
                </a:moveTo>
                <a:cubicBezTo>
                  <a:pt x="4891" y="12364"/>
                  <a:pt x="4875" y="12452"/>
                  <a:pt x="4837" y="12526"/>
                </a:cubicBezTo>
                <a:cubicBezTo>
                  <a:pt x="4959" y="12575"/>
                  <a:pt x="4998" y="12592"/>
                  <a:pt x="5085" y="12551"/>
                </a:cubicBezTo>
              </a:path>
              <a:path w="7963" h="5110">
                <a:moveTo>
                  <a:pt x="5110" y="12229"/>
                </a:moveTo>
                <a:cubicBezTo>
                  <a:pt x="5096" y="12424"/>
                  <a:pt x="5082" y="12633"/>
                  <a:pt x="5035" y="12824"/>
                </a:cubicBezTo>
                <a:cubicBezTo>
                  <a:pt x="5027" y="12841"/>
                  <a:pt x="5019" y="12857"/>
                  <a:pt x="5011" y="12874"/>
                </a:cubicBezTo>
              </a:path>
              <a:path w="7963" h="5110">
                <a:moveTo>
                  <a:pt x="5928" y="12129"/>
                </a:moveTo>
                <a:cubicBezTo>
                  <a:pt x="6014" y="12146"/>
                  <a:pt x="6119" y="12165"/>
                  <a:pt x="6201" y="12204"/>
                </a:cubicBezTo>
                <a:cubicBezTo>
                  <a:pt x="6269" y="12237"/>
                  <a:pt x="5999" y="12498"/>
                  <a:pt x="5953" y="12551"/>
                </a:cubicBezTo>
              </a:path>
              <a:path w="7963" h="5110">
                <a:moveTo>
                  <a:pt x="5730" y="12650"/>
                </a:moveTo>
                <a:cubicBezTo>
                  <a:pt x="5971" y="12669"/>
                  <a:pt x="6207" y="12675"/>
                  <a:pt x="6449" y="12675"/>
                </a:cubicBezTo>
              </a:path>
              <a:path w="7963" h="5110">
                <a:moveTo>
                  <a:pt x="6201" y="12973"/>
                </a:moveTo>
                <a:cubicBezTo>
                  <a:pt x="6060" y="12973"/>
                  <a:pt x="6017" y="12972"/>
                  <a:pt x="5928" y="12998"/>
                </a:cubicBezTo>
                <a:cubicBezTo>
                  <a:pt x="5873" y="13148"/>
                  <a:pt x="5972" y="13175"/>
                  <a:pt x="6052" y="13295"/>
                </a:cubicBezTo>
                <a:cubicBezTo>
                  <a:pt x="6151" y="13443"/>
                  <a:pt x="6067" y="13508"/>
                  <a:pt x="5928" y="13494"/>
                </a:cubicBezTo>
                <a:cubicBezTo>
                  <a:pt x="5966" y="13258"/>
                  <a:pt x="6094" y="13191"/>
                  <a:pt x="6201" y="12998"/>
                </a:cubicBezTo>
                <a:cubicBezTo>
                  <a:pt x="6201" y="12981"/>
                  <a:pt x="6201" y="12965"/>
                  <a:pt x="6201" y="12948"/>
                </a:cubicBezTo>
              </a:path>
              <a:path w="7963" h="5110">
                <a:moveTo>
                  <a:pt x="3944" y="13717"/>
                </a:moveTo>
                <a:cubicBezTo>
                  <a:pt x="4577" y="13699"/>
                  <a:pt x="5251" y="13820"/>
                  <a:pt x="5879" y="13915"/>
                </a:cubicBezTo>
                <a:cubicBezTo>
                  <a:pt x="6384" y="13992"/>
                  <a:pt x="6891" y="14096"/>
                  <a:pt x="7392" y="14188"/>
                </a:cubicBezTo>
              </a:path>
              <a:path w="7963" h="5110">
                <a:moveTo>
                  <a:pt x="6796" y="10864"/>
                </a:moveTo>
                <a:cubicBezTo>
                  <a:pt x="6845" y="10819"/>
                  <a:pt x="6825" y="10959"/>
                  <a:pt x="6846" y="11063"/>
                </a:cubicBezTo>
              </a:path>
              <a:path w="7963" h="5110">
                <a:moveTo>
                  <a:pt x="6896" y="10716"/>
                </a:moveTo>
                <a:cubicBezTo>
                  <a:pt x="6870" y="10843"/>
                  <a:pt x="6819" y="10962"/>
                  <a:pt x="6772" y="11088"/>
                </a:cubicBezTo>
              </a:path>
              <a:path w="7963" h="5110">
                <a:moveTo>
                  <a:pt x="7193" y="11013"/>
                </a:moveTo>
                <a:cubicBezTo>
                  <a:pt x="7163" y="11170"/>
                  <a:pt x="7122" y="11228"/>
                  <a:pt x="7293" y="11162"/>
                </a:cubicBezTo>
              </a:path>
              <a:path w="7963" h="5110">
                <a:moveTo>
                  <a:pt x="7342" y="10988"/>
                </a:moveTo>
                <a:cubicBezTo>
                  <a:pt x="7306" y="11215"/>
                  <a:pt x="7277" y="11429"/>
                  <a:pt x="7268" y="11658"/>
                </a:cubicBezTo>
              </a:path>
              <a:path w="7963" h="5110">
                <a:moveTo>
                  <a:pt x="7640" y="10840"/>
                </a:moveTo>
                <a:cubicBezTo>
                  <a:pt x="7673" y="10832"/>
                  <a:pt x="7706" y="10823"/>
                  <a:pt x="7739" y="10815"/>
                </a:cubicBezTo>
              </a:path>
              <a:path w="7963" h="5110">
                <a:moveTo>
                  <a:pt x="7615" y="11038"/>
                </a:moveTo>
                <a:cubicBezTo>
                  <a:pt x="7648" y="11038"/>
                  <a:pt x="7681" y="11038"/>
                  <a:pt x="7714" y="11038"/>
                </a:cubicBezTo>
              </a:path>
              <a:path w="7963" h="5110">
                <a:moveTo>
                  <a:pt x="8781" y="10864"/>
                </a:moveTo>
                <a:cubicBezTo>
                  <a:pt x="8596" y="10947"/>
                  <a:pt x="8487" y="10984"/>
                  <a:pt x="8334" y="11137"/>
                </a:cubicBezTo>
                <a:cubicBezTo>
                  <a:pt x="8431" y="11226"/>
                  <a:pt x="8781" y="11305"/>
                  <a:pt x="8756" y="11485"/>
                </a:cubicBezTo>
                <a:cubicBezTo>
                  <a:pt x="8667" y="11619"/>
                  <a:pt x="8650" y="11665"/>
                  <a:pt x="8533" y="11658"/>
                </a:cubicBezTo>
                <a:cubicBezTo>
                  <a:pt x="8514" y="11387"/>
                  <a:pt x="8554" y="11237"/>
                  <a:pt x="8657" y="10988"/>
                </a:cubicBezTo>
              </a:path>
              <a:path w="7963" h="5110">
                <a:moveTo>
                  <a:pt x="8186" y="10815"/>
                </a:moveTo>
                <a:cubicBezTo>
                  <a:pt x="8490" y="10780"/>
                  <a:pt x="8796" y="10790"/>
                  <a:pt x="9103" y="10790"/>
                </a:cubicBezTo>
                <a:cubicBezTo>
                  <a:pt x="9136" y="10790"/>
                  <a:pt x="9170" y="10790"/>
                  <a:pt x="9203" y="10790"/>
                </a:cubicBezTo>
              </a:path>
              <a:path w="7963" h="5110">
                <a:moveTo>
                  <a:pt x="6995" y="10889"/>
                </a:moveTo>
                <a:cubicBezTo>
                  <a:pt x="7135" y="10849"/>
                  <a:pt x="7271" y="10825"/>
                  <a:pt x="7417" y="10815"/>
                </a:cubicBezTo>
              </a:path>
              <a:path w="7963" h="5110">
                <a:moveTo>
                  <a:pt x="6945" y="10418"/>
                </a:moveTo>
                <a:cubicBezTo>
                  <a:pt x="6957" y="10576"/>
                  <a:pt x="6966" y="10643"/>
                  <a:pt x="7119" y="10567"/>
                </a:cubicBezTo>
              </a:path>
              <a:path w="7963" h="5110">
                <a:moveTo>
                  <a:pt x="7094" y="10319"/>
                </a:moveTo>
                <a:cubicBezTo>
                  <a:pt x="7094" y="10495"/>
                  <a:pt x="7109" y="10665"/>
                  <a:pt x="7119" y="10840"/>
                </a:cubicBezTo>
              </a:path>
              <a:path w="7963" h="5110">
                <a:moveTo>
                  <a:pt x="8260" y="9996"/>
                </a:moveTo>
                <a:cubicBezTo>
                  <a:pt x="8249" y="10080"/>
                  <a:pt x="8235" y="10154"/>
                  <a:pt x="8235" y="10244"/>
                </a:cubicBezTo>
                <a:cubicBezTo>
                  <a:pt x="8368" y="10263"/>
                  <a:pt x="8430" y="10240"/>
                  <a:pt x="8558" y="10195"/>
                </a:cubicBezTo>
              </a:path>
              <a:path w="7963" h="5110">
                <a:moveTo>
                  <a:pt x="8508" y="9823"/>
                </a:moveTo>
                <a:cubicBezTo>
                  <a:pt x="8469" y="10065"/>
                  <a:pt x="8482" y="10319"/>
                  <a:pt x="8458" y="10567"/>
                </a:cubicBezTo>
              </a:path>
              <a:path w="7963" h="5110">
                <a:moveTo>
                  <a:pt x="5680" y="10368"/>
                </a:moveTo>
                <a:cubicBezTo>
                  <a:pt x="5889" y="10458"/>
                  <a:pt x="6050" y="10595"/>
                  <a:pt x="6226" y="10740"/>
                </a:cubicBezTo>
                <a:cubicBezTo>
                  <a:pt x="6449" y="10924"/>
                  <a:pt x="6675" y="11045"/>
                  <a:pt x="6921" y="11187"/>
                </a:cubicBezTo>
                <a:cubicBezTo>
                  <a:pt x="7089" y="11284"/>
                  <a:pt x="7249" y="11391"/>
                  <a:pt x="7417" y="11485"/>
                </a:cubicBezTo>
                <a:cubicBezTo>
                  <a:pt x="7497" y="11530"/>
                  <a:pt x="7562" y="11589"/>
                  <a:pt x="7640" y="11633"/>
                </a:cubicBezTo>
              </a:path>
              <a:path w="7963" h="5110">
                <a:moveTo>
                  <a:pt x="5755" y="11757"/>
                </a:moveTo>
                <a:cubicBezTo>
                  <a:pt x="5808" y="11598"/>
                  <a:pt x="5844" y="11586"/>
                  <a:pt x="5978" y="11460"/>
                </a:cubicBezTo>
                <a:cubicBezTo>
                  <a:pt x="6158" y="11292"/>
                  <a:pt x="6333" y="11119"/>
                  <a:pt x="6524" y="10964"/>
                </a:cubicBezTo>
                <a:cubicBezTo>
                  <a:pt x="6668" y="10847"/>
                  <a:pt x="6820" y="10749"/>
                  <a:pt x="6970" y="10641"/>
                </a:cubicBezTo>
                <a:cubicBezTo>
                  <a:pt x="7088" y="10556"/>
                  <a:pt x="7182" y="10459"/>
                  <a:pt x="7293" y="10368"/>
                </a:cubicBezTo>
                <a:cubicBezTo>
                  <a:pt x="7377" y="10299"/>
                  <a:pt x="7443" y="10262"/>
                  <a:pt x="7541" y="10220"/>
                </a:cubicBezTo>
                <a:cubicBezTo>
                  <a:pt x="7557" y="10212"/>
                  <a:pt x="7574" y="10203"/>
                  <a:pt x="7590" y="10195"/>
                </a:cubicBezTo>
              </a:path>
              <a:path w="7963" h="5110">
                <a:moveTo>
                  <a:pt x="8855" y="12179"/>
                </a:moveTo>
                <a:cubicBezTo>
                  <a:pt x="8951" y="12168"/>
                  <a:pt x="9034" y="12146"/>
                  <a:pt x="9128" y="12129"/>
                </a:cubicBezTo>
              </a:path>
              <a:path w="7963" h="5110">
                <a:moveTo>
                  <a:pt x="9029" y="12328"/>
                </a:moveTo>
                <a:cubicBezTo>
                  <a:pt x="9130" y="12308"/>
                  <a:pt x="9150" y="12310"/>
                  <a:pt x="9203" y="12278"/>
                </a:cubicBezTo>
              </a:path>
              <a:path w="7963" h="5110">
                <a:moveTo>
                  <a:pt x="4614" y="10542"/>
                </a:moveTo>
                <a:cubicBezTo>
                  <a:pt x="4774" y="10725"/>
                  <a:pt x="4938" y="10925"/>
                  <a:pt x="5060" y="11137"/>
                </a:cubicBezTo>
                <a:cubicBezTo>
                  <a:pt x="5153" y="11300"/>
                  <a:pt x="5243" y="11469"/>
                  <a:pt x="5333" y="11633"/>
                </a:cubicBezTo>
                <a:cubicBezTo>
                  <a:pt x="5358" y="11678"/>
                  <a:pt x="5382" y="11713"/>
                  <a:pt x="5407" y="11757"/>
                </a:cubicBezTo>
              </a:path>
              <a:path w="7963" h="5110">
                <a:moveTo>
                  <a:pt x="4911" y="9947"/>
                </a:moveTo>
                <a:cubicBezTo>
                  <a:pt x="4911" y="10013"/>
                  <a:pt x="4897" y="10059"/>
                  <a:pt x="4887" y="10120"/>
                </a:cubicBezTo>
                <a:cubicBezTo>
                  <a:pt x="4878" y="10175"/>
                  <a:pt x="4882" y="10268"/>
                  <a:pt x="4862" y="10319"/>
                </a:cubicBezTo>
                <a:cubicBezTo>
                  <a:pt x="4832" y="10396"/>
                  <a:pt x="4848" y="10388"/>
                  <a:pt x="4862" y="10468"/>
                </a:cubicBezTo>
                <a:cubicBezTo>
                  <a:pt x="4877" y="10551"/>
                  <a:pt x="4884" y="10596"/>
                  <a:pt x="4961" y="10641"/>
                </a:cubicBezTo>
                <a:cubicBezTo>
                  <a:pt x="5010" y="10670"/>
                  <a:pt x="5102" y="10682"/>
                  <a:pt x="5159" y="10666"/>
                </a:cubicBezTo>
                <a:cubicBezTo>
                  <a:pt x="5223" y="10648"/>
                  <a:pt x="5297" y="10597"/>
                  <a:pt x="5333" y="10542"/>
                </a:cubicBezTo>
                <a:cubicBezTo>
                  <a:pt x="5357" y="10505"/>
                  <a:pt x="5418" y="10390"/>
                  <a:pt x="5383" y="10344"/>
                </a:cubicBezTo>
                <a:cubicBezTo>
                  <a:pt x="5343" y="10292"/>
                  <a:pt x="5217" y="10324"/>
                  <a:pt x="5184" y="10368"/>
                </a:cubicBezTo>
                <a:cubicBezTo>
                  <a:pt x="5105" y="10474"/>
                  <a:pt x="5139" y="10554"/>
                  <a:pt x="5159" y="10666"/>
                </a:cubicBezTo>
                <a:cubicBezTo>
                  <a:pt x="5159" y="10674"/>
                  <a:pt x="5159" y="10683"/>
                  <a:pt x="5159" y="10691"/>
                </a:cubicBezTo>
              </a:path>
              <a:path w="7963" h="5110">
                <a:moveTo>
                  <a:pt x="9128" y="10393"/>
                </a:moveTo>
                <a:cubicBezTo>
                  <a:pt x="9139" y="10576"/>
                  <a:pt x="9153" y="10755"/>
                  <a:pt x="9153" y="10939"/>
                </a:cubicBezTo>
              </a:path>
              <a:path w="7963" h="5110">
                <a:moveTo>
                  <a:pt x="8979" y="10691"/>
                </a:moveTo>
                <a:cubicBezTo>
                  <a:pt x="9130" y="10683"/>
                  <a:pt x="9276" y="10658"/>
                  <a:pt x="9426" y="10641"/>
                </a:cubicBezTo>
              </a:path>
              <a:path w="7963" h="5110">
                <a:moveTo>
                  <a:pt x="9401" y="10021"/>
                </a:moveTo>
                <a:cubicBezTo>
                  <a:pt x="9434" y="10319"/>
                  <a:pt x="9508" y="10611"/>
                  <a:pt x="9525" y="10914"/>
                </a:cubicBezTo>
                <a:cubicBezTo>
                  <a:pt x="9535" y="11091"/>
                  <a:pt x="9521" y="11261"/>
                  <a:pt x="9500" y="11435"/>
                </a:cubicBezTo>
                <a:cubicBezTo>
                  <a:pt x="9702" y="11404"/>
                  <a:pt x="9909" y="11343"/>
                  <a:pt x="10120" y="11311"/>
                </a:cubicBezTo>
                <a:cubicBezTo>
                  <a:pt x="10216" y="11296"/>
                  <a:pt x="10379" y="11275"/>
                  <a:pt x="10468" y="11261"/>
                </a:cubicBezTo>
                <a:cubicBezTo>
                  <a:pt x="10352" y="10967"/>
                  <a:pt x="10326" y="10588"/>
                  <a:pt x="10294" y="10269"/>
                </a:cubicBezTo>
                <a:cubicBezTo>
                  <a:pt x="10271" y="10033"/>
                  <a:pt x="10290" y="9791"/>
                  <a:pt x="10220" y="9575"/>
                </a:cubicBezTo>
                <a:cubicBezTo>
                  <a:pt x="10194" y="9494"/>
                  <a:pt x="10167" y="9436"/>
                  <a:pt x="10145" y="9351"/>
                </a:cubicBezTo>
                <a:cubicBezTo>
                  <a:pt x="10121" y="9260"/>
                  <a:pt x="10099" y="9169"/>
                  <a:pt x="10071" y="9079"/>
                </a:cubicBezTo>
                <a:cubicBezTo>
                  <a:pt x="9888" y="9261"/>
                  <a:pt x="9692" y="9512"/>
                  <a:pt x="9500" y="9723"/>
                </a:cubicBezTo>
                <a:cubicBezTo>
                  <a:pt x="9447" y="9781"/>
                  <a:pt x="9013" y="10092"/>
                  <a:pt x="9252" y="10071"/>
                </a:cubicBezTo>
                <a:cubicBezTo>
                  <a:pt x="9360" y="10049"/>
                  <a:pt x="9387" y="10046"/>
                  <a:pt x="9451" y="10021"/>
                </a:cubicBezTo>
              </a:path>
              <a:path w="7963" h="5110">
                <a:moveTo>
                  <a:pt x="9599" y="10393"/>
                </a:moveTo>
                <a:cubicBezTo>
                  <a:pt x="9758" y="10377"/>
                  <a:pt x="9909" y="10368"/>
                  <a:pt x="10071" y="10368"/>
                </a:cubicBezTo>
                <a:cubicBezTo>
                  <a:pt x="10178" y="10368"/>
                  <a:pt x="10186" y="10368"/>
                  <a:pt x="10244" y="10368"/>
                </a:cubicBezTo>
              </a:path>
              <a:path w="7963" h="5110">
                <a:moveTo>
                  <a:pt x="10021" y="10740"/>
                </a:moveTo>
                <a:cubicBezTo>
                  <a:pt x="10047" y="10640"/>
                  <a:pt x="9941" y="10725"/>
                  <a:pt x="9897" y="10765"/>
                </a:cubicBezTo>
                <a:cubicBezTo>
                  <a:pt x="9869" y="10793"/>
                  <a:pt x="9860" y="10807"/>
                  <a:pt x="9872" y="10840"/>
                </a:cubicBezTo>
                <a:cubicBezTo>
                  <a:pt x="9970" y="10847"/>
                  <a:pt x="10101" y="10834"/>
                  <a:pt x="10120" y="10939"/>
                </a:cubicBezTo>
                <a:cubicBezTo>
                  <a:pt x="10120" y="11001"/>
                  <a:pt x="10109" y="11025"/>
                  <a:pt x="10046" y="11038"/>
                </a:cubicBezTo>
                <a:cubicBezTo>
                  <a:pt x="9891" y="10976"/>
                  <a:pt x="9963" y="10901"/>
                  <a:pt x="10046" y="10765"/>
                </a:cubicBezTo>
              </a:path>
              <a:path w="7963" h="5110">
                <a:moveTo>
                  <a:pt x="9922" y="9872"/>
                </a:moveTo>
                <a:cubicBezTo>
                  <a:pt x="9839" y="9790"/>
                  <a:pt x="9791" y="9825"/>
                  <a:pt x="9699" y="9897"/>
                </a:cubicBezTo>
                <a:cubicBezTo>
                  <a:pt x="9649" y="10021"/>
                  <a:pt x="9833" y="9981"/>
                  <a:pt x="9922" y="10021"/>
                </a:cubicBezTo>
                <a:cubicBezTo>
                  <a:pt x="9993" y="10069"/>
                  <a:pt x="10016" y="10082"/>
                  <a:pt x="10021" y="10145"/>
                </a:cubicBezTo>
                <a:cubicBezTo>
                  <a:pt x="9968" y="10207"/>
                  <a:pt x="9850" y="10271"/>
                  <a:pt x="9798" y="10145"/>
                </a:cubicBezTo>
                <a:cubicBezTo>
                  <a:pt x="9756" y="10041"/>
                  <a:pt x="9891" y="9979"/>
                  <a:pt x="9922" y="9897"/>
                </a:cubicBezTo>
                <a:cubicBezTo>
                  <a:pt x="9922" y="9889"/>
                  <a:pt x="9922" y="9880"/>
                  <a:pt x="9922" y="9872"/>
                </a:cubicBezTo>
              </a:path>
              <a:path w="7963" h="5110">
                <a:moveTo>
                  <a:pt x="10592" y="10319"/>
                </a:moveTo>
                <a:cubicBezTo>
                  <a:pt x="10660" y="10319"/>
                  <a:pt x="10703" y="10323"/>
                  <a:pt x="10765" y="10344"/>
                </a:cubicBezTo>
              </a:path>
              <a:path w="7963" h="5110">
                <a:moveTo>
                  <a:pt x="10567" y="10567"/>
                </a:moveTo>
                <a:cubicBezTo>
                  <a:pt x="10691" y="10567"/>
                  <a:pt x="10716" y="10567"/>
                  <a:pt x="10790" y="10567"/>
                </a:cubicBezTo>
              </a:path>
              <a:path w="7963" h="5110">
                <a:moveTo>
                  <a:pt x="11112" y="9798"/>
                </a:moveTo>
                <a:cubicBezTo>
                  <a:pt x="11112" y="9957"/>
                  <a:pt x="11146" y="10111"/>
                  <a:pt x="11162" y="10269"/>
                </a:cubicBezTo>
                <a:cubicBezTo>
                  <a:pt x="11162" y="10286"/>
                  <a:pt x="11162" y="10302"/>
                  <a:pt x="11162" y="10319"/>
                </a:cubicBezTo>
              </a:path>
              <a:path w="7963" h="5110">
                <a:moveTo>
                  <a:pt x="11336" y="9798"/>
                </a:moveTo>
                <a:cubicBezTo>
                  <a:pt x="11442" y="9777"/>
                  <a:pt x="11470" y="9755"/>
                  <a:pt x="11509" y="9823"/>
                </a:cubicBezTo>
                <a:cubicBezTo>
                  <a:pt x="11523" y="10020"/>
                  <a:pt x="11311" y="10147"/>
                  <a:pt x="11311" y="10294"/>
                </a:cubicBezTo>
                <a:cubicBezTo>
                  <a:pt x="11311" y="10343"/>
                  <a:pt x="11549" y="10297"/>
                  <a:pt x="11584" y="10294"/>
                </a:cubicBezTo>
              </a:path>
              <a:path w="7963" h="5110">
                <a:moveTo>
                  <a:pt x="11013" y="10567"/>
                </a:moveTo>
                <a:cubicBezTo>
                  <a:pt x="11230" y="10522"/>
                  <a:pt x="11461" y="10476"/>
                  <a:pt x="11683" y="10542"/>
                </a:cubicBezTo>
                <a:cubicBezTo>
                  <a:pt x="11691" y="10550"/>
                  <a:pt x="11700" y="10559"/>
                  <a:pt x="11708" y="10567"/>
                </a:cubicBezTo>
              </a:path>
              <a:path w="7963" h="5110">
                <a:moveTo>
                  <a:pt x="11509" y="10815"/>
                </a:moveTo>
                <a:cubicBezTo>
                  <a:pt x="11403" y="10855"/>
                  <a:pt x="11347" y="10887"/>
                  <a:pt x="11261" y="10964"/>
                </a:cubicBezTo>
                <a:cubicBezTo>
                  <a:pt x="11308" y="11088"/>
                  <a:pt x="11489" y="11093"/>
                  <a:pt x="11534" y="11237"/>
                </a:cubicBezTo>
                <a:cubicBezTo>
                  <a:pt x="11579" y="11383"/>
                  <a:pt x="11510" y="11440"/>
                  <a:pt x="11410" y="11485"/>
                </a:cubicBezTo>
                <a:cubicBezTo>
                  <a:pt x="11387" y="11258"/>
                  <a:pt x="11437" y="11121"/>
                  <a:pt x="11534" y="109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4313160"/>
            <a:ext cx="366840" cy="723960"/>
          </a:xfrm>
          <a:custGeom>
            <a:avLst/>
            <a:gdLst/>
            <a:ahLst/>
            <a:rect l="l" t="t" r="r" b="b"/>
            <a:pathLst>
              <a:path w="1018" h="2010">
                <a:moveTo>
                  <a:pt x="10244" y="12030"/>
                </a:moveTo>
                <a:lnTo>
                  <a:pt x="10244" y="12030"/>
                </a:lnTo>
              </a:path>
              <a:path w="1018" h="2010">
                <a:moveTo>
                  <a:pt x="10319" y="11981"/>
                </a:moveTo>
                <a:cubicBezTo>
                  <a:pt x="10281" y="11993"/>
                  <a:pt x="9982" y="12032"/>
                  <a:pt x="9971" y="12055"/>
                </a:cubicBezTo>
                <a:cubicBezTo>
                  <a:pt x="9936" y="12127"/>
                  <a:pt x="9990" y="12274"/>
                  <a:pt x="9996" y="12353"/>
                </a:cubicBezTo>
                <a:cubicBezTo>
                  <a:pt x="10141" y="12295"/>
                  <a:pt x="10420" y="12247"/>
                  <a:pt x="10319" y="12526"/>
                </a:cubicBezTo>
                <a:cubicBezTo>
                  <a:pt x="10251" y="12715"/>
                  <a:pt x="10033" y="12646"/>
                  <a:pt x="9897" y="12601"/>
                </a:cubicBezTo>
              </a:path>
              <a:path w="1018" h="2010">
                <a:moveTo>
                  <a:pt x="9525" y="12750"/>
                </a:moveTo>
                <a:cubicBezTo>
                  <a:pt x="9808" y="12875"/>
                  <a:pt x="10084" y="12849"/>
                  <a:pt x="10393" y="12849"/>
                </a:cubicBezTo>
                <a:cubicBezTo>
                  <a:pt x="10484" y="12849"/>
                  <a:pt x="10492" y="12849"/>
                  <a:pt x="10542" y="12849"/>
                </a:cubicBezTo>
              </a:path>
              <a:path w="1018" h="2010">
                <a:moveTo>
                  <a:pt x="10269" y="13196"/>
                </a:moveTo>
                <a:cubicBezTo>
                  <a:pt x="10189" y="13067"/>
                  <a:pt x="10103" y="13051"/>
                  <a:pt x="9947" y="13097"/>
                </a:cubicBezTo>
                <a:cubicBezTo>
                  <a:pt x="9788" y="13165"/>
                  <a:pt x="9741" y="13178"/>
                  <a:pt x="9674" y="13271"/>
                </a:cubicBezTo>
                <a:cubicBezTo>
                  <a:pt x="9772" y="13510"/>
                  <a:pt x="10044" y="13506"/>
                  <a:pt x="10145" y="13717"/>
                </a:cubicBezTo>
                <a:cubicBezTo>
                  <a:pt x="10145" y="13858"/>
                  <a:pt x="10150" y="13900"/>
                  <a:pt x="10071" y="13965"/>
                </a:cubicBezTo>
                <a:cubicBezTo>
                  <a:pt x="9811" y="13989"/>
                  <a:pt x="9995" y="13685"/>
                  <a:pt x="10046" y="13543"/>
                </a:cubicBezTo>
                <a:cubicBezTo>
                  <a:pt x="10106" y="13383"/>
                  <a:pt x="10108" y="13351"/>
                  <a:pt x="10170" y="132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38200" y="4902120"/>
            <a:ext cx="1544760" cy="1241640"/>
          </a:xfrm>
          <a:custGeom>
            <a:avLst/>
            <a:gdLst/>
            <a:ahLst/>
            <a:rect l="l" t="t" r="r" b="b"/>
            <a:pathLst>
              <a:path w="4292" h="3449">
                <a:moveTo>
                  <a:pt x="6449" y="14312"/>
                </a:moveTo>
                <a:cubicBezTo>
                  <a:pt x="6293" y="14361"/>
                  <a:pt x="6175" y="14320"/>
                  <a:pt x="6127" y="14511"/>
                </a:cubicBezTo>
                <a:cubicBezTo>
                  <a:pt x="6127" y="14618"/>
                  <a:pt x="6127" y="14626"/>
                  <a:pt x="6127" y="14684"/>
                </a:cubicBezTo>
                <a:cubicBezTo>
                  <a:pt x="6237" y="14645"/>
                  <a:pt x="6479" y="14578"/>
                  <a:pt x="6548" y="14734"/>
                </a:cubicBezTo>
                <a:cubicBezTo>
                  <a:pt x="6637" y="14936"/>
                  <a:pt x="6249" y="14929"/>
                  <a:pt x="6176" y="14932"/>
                </a:cubicBezTo>
              </a:path>
              <a:path w="4292" h="3449">
                <a:moveTo>
                  <a:pt x="5854" y="15205"/>
                </a:moveTo>
                <a:cubicBezTo>
                  <a:pt x="6129" y="15234"/>
                  <a:pt x="6396" y="15255"/>
                  <a:pt x="6672" y="15255"/>
                </a:cubicBezTo>
              </a:path>
              <a:path w="4292" h="3449">
                <a:moveTo>
                  <a:pt x="6449" y="15701"/>
                </a:moveTo>
                <a:cubicBezTo>
                  <a:pt x="6232" y="15710"/>
                  <a:pt x="6085" y="15736"/>
                  <a:pt x="6003" y="15949"/>
                </a:cubicBezTo>
                <a:cubicBezTo>
                  <a:pt x="6123" y="16009"/>
                  <a:pt x="6390" y="16067"/>
                  <a:pt x="6300" y="16247"/>
                </a:cubicBezTo>
                <a:cubicBezTo>
                  <a:pt x="6239" y="16308"/>
                  <a:pt x="6232" y="16333"/>
                  <a:pt x="6176" y="16321"/>
                </a:cubicBezTo>
                <a:cubicBezTo>
                  <a:pt x="6166" y="16122"/>
                  <a:pt x="6224" y="15967"/>
                  <a:pt x="6350" y="15801"/>
                </a:cubicBezTo>
                <a:cubicBezTo>
                  <a:pt x="6367" y="15784"/>
                  <a:pt x="6383" y="15768"/>
                  <a:pt x="6400" y="15751"/>
                </a:cubicBezTo>
              </a:path>
              <a:path w="4292" h="3449">
                <a:moveTo>
                  <a:pt x="4837" y="15032"/>
                </a:moveTo>
                <a:cubicBezTo>
                  <a:pt x="4851" y="14967"/>
                  <a:pt x="4892" y="14855"/>
                  <a:pt x="4986" y="14858"/>
                </a:cubicBezTo>
                <a:cubicBezTo>
                  <a:pt x="5184" y="14865"/>
                  <a:pt x="5203" y="15113"/>
                  <a:pt x="5135" y="15255"/>
                </a:cubicBezTo>
                <a:cubicBezTo>
                  <a:pt x="5042" y="15448"/>
                  <a:pt x="4850" y="15600"/>
                  <a:pt x="4762" y="15801"/>
                </a:cubicBezTo>
                <a:cubicBezTo>
                  <a:pt x="4742" y="15885"/>
                  <a:pt x="4741" y="15904"/>
                  <a:pt x="4713" y="15949"/>
                </a:cubicBezTo>
                <a:cubicBezTo>
                  <a:pt x="4770" y="15854"/>
                  <a:pt x="4812" y="15808"/>
                  <a:pt x="4887" y="15726"/>
                </a:cubicBezTo>
                <a:cubicBezTo>
                  <a:pt x="4969" y="15757"/>
                  <a:pt x="5034" y="15914"/>
                  <a:pt x="5135" y="15925"/>
                </a:cubicBezTo>
                <a:cubicBezTo>
                  <a:pt x="5243" y="15903"/>
                  <a:pt x="5269" y="15900"/>
                  <a:pt x="5333" y="15875"/>
                </a:cubicBezTo>
              </a:path>
              <a:path w="4292" h="3449">
                <a:moveTo>
                  <a:pt x="4390" y="16694"/>
                </a:moveTo>
                <a:cubicBezTo>
                  <a:pt x="5003" y="17110"/>
                  <a:pt x="5687" y="17104"/>
                  <a:pt x="6400" y="16991"/>
                </a:cubicBezTo>
                <a:cubicBezTo>
                  <a:pt x="6908" y="16911"/>
                  <a:pt x="7366" y="16739"/>
                  <a:pt x="7739" y="16371"/>
                </a:cubicBezTo>
                <a:cubicBezTo>
                  <a:pt x="8008" y="16105"/>
                  <a:pt x="8263" y="15690"/>
                  <a:pt x="8285" y="15304"/>
                </a:cubicBezTo>
                <a:cubicBezTo>
                  <a:pt x="8309" y="14894"/>
                  <a:pt x="8045" y="14491"/>
                  <a:pt x="7764" y="14213"/>
                </a:cubicBezTo>
                <a:cubicBezTo>
                  <a:pt x="7220" y="13676"/>
                  <a:pt x="6473" y="13491"/>
                  <a:pt x="5755" y="13742"/>
                </a:cubicBezTo>
                <a:cubicBezTo>
                  <a:pt x="5212" y="13932"/>
                  <a:pt x="4845" y="14237"/>
                  <a:pt x="4490" y="14684"/>
                </a:cubicBezTo>
                <a:cubicBezTo>
                  <a:pt x="4167" y="15090"/>
                  <a:pt x="3999" y="15477"/>
                  <a:pt x="3994" y="15999"/>
                </a:cubicBezTo>
                <a:cubicBezTo>
                  <a:pt x="3991" y="16308"/>
                  <a:pt x="4058" y="16647"/>
                  <a:pt x="4291" y="16867"/>
                </a:cubicBezTo>
                <a:cubicBezTo>
                  <a:pt x="4349" y="16908"/>
                  <a:pt x="4407" y="16950"/>
                  <a:pt x="4465" y="169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28000" y="1911240"/>
            <a:ext cx="482760" cy="295560"/>
          </a:xfrm>
          <a:custGeom>
            <a:avLst/>
            <a:gdLst/>
            <a:ahLst/>
            <a:rect l="l" t="t" r="r" b="b"/>
            <a:pathLst>
              <a:path w="1341" h="820">
                <a:moveTo>
                  <a:pt x="22299" y="5333"/>
                </a:moveTo>
                <a:cubicBezTo>
                  <a:pt x="22382" y="5333"/>
                  <a:pt x="22378" y="5328"/>
                  <a:pt x="22448" y="5358"/>
                </a:cubicBezTo>
              </a:path>
              <a:path w="1341" h="820">
                <a:moveTo>
                  <a:pt x="22324" y="5507"/>
                </a:moveTo>
                <a:cubicBezTo>
                  <a:pt x="22372" y="5530"/>
                  <a:pt x="22387" y="5538"/>
                  <a:pt x="22423" y="5531"/>
                </a:cubicBezTo>
              </a:path>
              <a:path w="1341" h="820">
                <a:moveTo>
                  <a:pt x="23093" y="5457"/>
                </a:moveTo>
                <a:cubicBezTo>
                  <a:pt x="22971" y="5677"/>
                  <a:pt x="23144" y="5464"/>
                  <a:pt x="23118" y="5730"/>
                </a:cubicBezTo>
                <a:cubicBezTo>
                  <a:pt x="23095" y="5969"/>
                  <a:pt x="23029" y="6029"/>
                  <a:pt x="22845" y="6127"/>
                </a:cubicBezTo>
                <a:cubicBezTo>
                  <a:pt x="22833" y="5992"/>
                  <a:pt x="22910" y="5827"/>
                  <a:pt x="23093" y="5928"/>
                </a:cubicBezTo>
                <a:cubicBezTo>
                  <a:pt x="23145" y="6006"/>
                  <a:pt x="23163" y="6035"/>
                  <a:pt x="23168" y="6102"/>
                </a:cubicBezTo>
              </a:path>
              <a:path w="1341" h="820">
                <a:moveTo>
                  <a:pt x="23416" y="5556"/>
                </a:moveTo>
                <a:cubicBezTo>
                  <a:pt x="23379" y="5769"/>
                  <a:pt x="23358" y="5820"/>
                  <a:pt x="23465" y="6003"/>
                </a:cubicBezTo>
                <a:cubicBezTo>
                  <a:pt x="23654" y="5925"/>
                  <a:pt x="23709" y="5780"/>
                  <a:pt x="23490" y="5631"/>
                </a:cubicBezTo>
                <a:cubicBezTo>
                  <a:pt x="23457" y="5623"/>
                  <a:pt x="23424" y="5614"/>
                  <a:pt x="23391" y="5606"/>
                </a:cubicBezTo>
              </a:path>
              <a:path w="1341" h="820">
                <a:moveTo>
                  <a:pt x="22870" y="5333"/>
                </a:moveTo>
                <a:cubicBezTo>
                  <a:pt x="23092" y="5298"/>
                  <a:pt x="23318" y="5323"/>
                  <a:pt x="23540" y="5358"/>
                </a:cubicBezTo>
                <a:cubicBezTo>
                  <a:pt x="23565" y="5366"/>
                  <a:pt x="23589" y="5375"/>
                  <a:pt x="23614" y="53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966080" y="2768760"/>
            <a:ext cx="579600" cy="303120"/>
          </a:xfrm>
          <a:custGeom>
            <a:avLst/>
            <a:gdLst/>
            <a:ahLst/>
            <a:rect l="l" t="t" r="r" b="b"/>
            <a:pathLst>
              <a:path w="1613" h="845">
                <a:moveTo>
                  <a:pt x="22126" y="7689"/>
                </a:moveTo>
                <a:cubicBezTo>
                  <a:pt x="22184" y="7689"/>
                  <a:pt x="22209" y="7689"/>
                  <a:pt x="22250" y="7689"/>
                </a:cubicBezTo>
              </a:path>
              <a:path w="1613" h="845">
                <a:moveTo>
                  <a:pt x="22200" y="7888"/>
                </a:moveTo>
                <a:cubicBezTo>
                  <a:pt x="22248" y="7912"/>
                  <a:pt x="22262" y="7920"/>
                  <a:pt x="22299" y="7913"/>
                </a:cubicBezTo>
              </a:path>
              <a:path w="1613" h="845">
                <a:moveTo>
                  <a:pt x="22895" y="7987"/>
                </a:moveTo>
                <a:cubicBezTo>
                  <a:pt x="22853" y="8029"/>
                  <a:pt x="22828" y="8054"/>
                  <a:pt x="22870" y="8012"/>
                </a:cubicBezTo>
                <a:cubicBezTo>
                  <a:pt x="23084" y="7876"/>
                  <a:pt x="23066" y="8207"/>
                  <a:pt x="22969" y="8359"/>
                </a:cubicBezTo>
                <a:cubicBezTo>
                  <a:pt x="22868" y="8516"/>
                  <a:pt x="22766" y="8513"/>
                  <a:pt x="22647" y="8458"/>
                </a:cubicBezTo>
                <a:cubicBezTo>
                  <a:pt x="22791" y="8274"/>
                  <a:pt x="22880" y="8296"/>
                  <a:pt x="23044" y="8483"/>
                </a:cubicBezTo>
                <a:cubicBezTo>
                  <a:pt x="23052" y="8500"/>
                  <a:pt x="23060" y="8516"/>
                  <a:pt x="23068" y="8533"/>
                </a:cubicBezTo>
              </a:path>
              <a:path w="1613" h="845">
                <a:moveTo>
                  <a:pt x="23292" y="8111"/>
                </a:moveTo>
                <a:cubicBezTo>
                  <a:pt x="23246" y="8358"/>
                  <a:pt x="23205" y="8344"/>
                  <a:pt x="23391" y="8483"/>
                </a:cubicBezTo>
                <a:cubicBezTo>
                  <a:pt x="23628" y="8288"/>
                  <a:pt x="23559" y="8242"/>
                  <a:pt x="23316" y="8086"/>
                </a:cubicBezTo>
              </a:path>
              <a:path w="1613" h="845">
                <a:moveTo>
                  <a:pt x="22796" y="7739"/>
                </a:moveTo>
                <a:cubicBezTo>
                  <a:pt x="23063" y="7752"/>
                  <a:pt x="23321" y="7743"/>
                  <a:pt x="23589" y="7739"/>
                </a:cubicBezTo>
                <a:cubicBezTo>
                  <a:pt x="23639" y="7739"/>
                  <a:pt x="23688" y="7739"/>
                  <a:pt x="23738" y="77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92880" y="1625760"/>
            <a:ext cx="1814400" cy="3241440"/>
          </a:xfrm>
          <a:custGeom>
            <a:avLst/>
            <a:gdLst/>
            <a:ahLst/>
            <a:rect l="l" t="t" r="r" b="b"/>
            <a:pathLst>
              <a:path w="5037" h="9006">
                <a:moveTo>
                  <a:pt x="18951" y="5135"/>
                </a:moveTo>
                <a:cubicBezTo>
                  <a:pt x="18930" y="5440"/>
                  <a:pt x="18911" y="5730"/>
                  <a:pt x="18852" y="6028"/>
                </a:cubicBezTo>
              </a:path>
              <a:path w="5037" h="9006">
                <a:moveTo>
                  <a:pt x="19645" y="4663"/>
                </a:moveTo>
                <a:cubicBezTo>
                  <a:pt x="19415" y="5003"/>
                  <a:pt x="19410" y="4958"/>
                  <a:pt x="19596" y="5259"/>
                </a:cubicBezTo>
                <a:cubicBezTo>
                  <a:pt x="19669" y="5430"/>
                  <a:pt x="19694" y="5485"/>
                  <a:pt x="19621" y="5606"/>
                </a:cubicBezTo>
                <a:cubicBezTo>
                  <a:pt x="19311" y="5652"/>
                  <a:pt x="19631" y="5110"/>
                  <a:pt x="19670" y="4911"/>
                </a:cubicBezTo>
                <a:cubicBezTo>
                  <a:pt x="19670" y="4870"/>
                  <a:pt x="19670" y="4828"/>
                  <a:pt x="19670" y="4787"/>
                </a:cubicBezTo>
              </a:path>
              <a:path w="5037" h="9006">
                <a:moveTo>
                  <a:pt x="20315" y="4589"/>
                </a:moveTo>
                <a:cubicBezTo>
                  <a:pt x="20465" y="4457"/>
                  <a:pt x="20712" y="4531"/>
                  <a:pt x="20762" y="4762"/>
                </a:cubicBezTo>
                <a:cubicBezTo>
                  <a:pt x="20827" y="5060"/>
                  <a:pt x="20549" y="5199"/>
                  <a:pt x="20340" y="5159"/>
                </a:cubicBezTo>
                <a:cubicBezTo>
                  <a:pt x="20480" y="4962"/>
                  <a:pt x="20534" y="5023"/>
                  <a:pt x="20737" y="5135"/>
                </a:cubicBezTo>
              </a:path>
              <a:path w="5037" h="9006">
                <a:moveTo>
                  <a:pt x="20216" y="5407"/>
                </a:moveTo>
                <a:cubicBezTo>
                  <a:pt x="20478" y="5407"/>
                  <a:pt x="20759" y="5381"/>
                  <a:pt x="21010" y="5432"/>
                </a:cubicBezTo>
              </a:path>
              <a:path w="5037" h="9006">
                <a:moveTo>
                  <a:pt x="20762" y="5779"/>
                </a:moveTo>
                <a:cubicBezTo>
                  <a:pt x="20678" y="5785"/>
                  <a:pt x="20519" y="5773"/>
                  <a:pt x="20464" y="5854"/>
                </a:cubicBezTo>
                <a:cubicBezTo>
                  <a:pt x="20403" y="5945"/>
                  <a:pt x="20382" y="6049"/>
                  <a:pt x="20365" y="6152"/>
                </a:cubicBezTo>
                <a:cubicBezTo>
                  <a:pt x="20506" y="6123"/>
                  <a:pt x="20599" y="5980"/>
                  <a:pt x="20762" y="6077"/>
                </a:cubicBezTo>
                <a:cubicBezTo>
                  <a:pt x="20984" y="6209"/>
                  <a:pt x="20752" y="6511"/>
                  <a:pt x="20563" y="6499"/>
                </a:cubicBezTo>
                <a:cubicBezTo>
                  <a:pt x="20497" y="6474"/>
                  <a:pt x="20431" y="6449"/>
                  <a:pt x="20365" y="6424"/>
                </a:cubicBezTo>
              </a:path>
              <a:path w="5037" h="9006">
                <a:moveTo>
                  <a:pt x="17835" y="7541"/>
                </a:moveTo>
                <a:cubicBezTo>
                  <a:pt x="18025" y="7541"/>
                  <a:pt x="18083" y="7541"/>
                  <a:pt x="18207" y="7541"/>
                </a:cubicBezTo>
              </a:path>
              <a:path w="5037" h="9006">
                <a:moveTo>
                  <a:pt x="19422" y="7565"/>
                </a:moveTo>
                <a:cubicBezTo>
                  <a:pt x="19487" y="7444"/>
                  <a:pt x="19529" y="7259"/>
                  <a:pt x="19323" y="7218"/>
                </a:cubicBezTo>
                <a:cubicBezTo>
                  <a:pt x="19073" y="7168"/>
                  <a:pt x="19048" y="7546"/>
                  <a:pt x="19000" y="7689"/>
                </a:cubicBezTo>
                <a:cubicBezTo>
                  <a:pt x="19284" y="7806"/>
                  <a:pt x="19330" y="7700"/>
                  <a:pt x="19472" y="7417"/>
                </a:cubicBezTo>
                <a:cubicBezTo>
                  <a:pt x="19427" y="7699"/>
                  <a:pt x="19433" y="7997"/>
                  <a:pt x="19397" y="8285"/>
                </a:cubicBezTo>
                <a:cubicBezTo>
                  <a:pt x="19377" y="8402"/>
                  <a:pt x="19383" y="8423"/>
                  <a:pt x="19348" y="8483"/>
                </a:cubicBezTo>
              </a:path>
              <a:path w="5037" h="9006">
                <a:moveTo>
                  <a:pt x="20241" y="7144"/>
                </a:moveTo>
                <a:cubicBezTo>
                  <a:pt x="20328" y="7126"/>
                  <a:pt x="20464" y="7035"/>
                  <a:pt x="20538" y="7144"/>
                </a:cubicBezTo>
                <a:cubicBezTo>
                  <a:pt x="20604" y="7241"/>
                  <a:pt x="20469" y="7324"/>
                  <a:pt x="20414" y="7367"/>
                </a:cubicBezTo>
                <a:cubicBezTo>
                  <a:pt x="20458" y="7362"/>
                  <a:pt x="20752" y="7309"/>
                  <a:pt x="20638" y="7491"/>
                </a:cubicBezTo>
                <a:cubicBezTo>
                  <a:pt x="20531" y="7570"/>
                  <a:pt x="20489" y="7596"/>
                  <a:pt x="20389" y="7590"/>
                </a:cubicBezTo>
              </a:path>
              <a:path w="5037" h="9006">
                <a:moveTo>
                  <a:pt x="20290" y="7789"/>
                </a:moveTo>
                <a:cubicBezTo>
                  <a:pt x="20540" y="7749"/>
                  <a:pt x="20783" y="7706"/>
                  <a:pt x="21034" y="7689"/>
                </a:cubicBezTo>
              </a:path>
              <a:path w="5037" h="9006">
                <a:moveTo>
                  <a:pt x="20315" y="8235"/>
                </a:moveTo>
                <a:cubicBezTo>
                  <a:pt x="20309" y="8325"/>
                  <a:pt x="20300" y="8401"/>
                  <a:pt x="20315" y="8483"/>
                </a:cubicBezTo>
                <a:cubicBezTo>
                  <a:pt x="20497" y="8454"/>
                  <a:pt x="20580" y="8417"/>
                  <a:pt x="20737" y="8310"/>
                </a:cubicBezTo>
              </a:path>
              <a:path w="5037" h="9006">
                <a:moveTo>
                  <a:pt x="20662" y="8136"/>
                </a:moveTo>
                <a:cubicBezTo>
                  <a:pt x="20641" y="8352"/>
                  <a:pt x="20620" y="8564"/>
                  <a:pt x="20613" y="8781"/>
                </a:cubicBezTo>
              </a:path>
              <a:path w="5037" h="9006">
                <a:moveTo>
                  <a:pt x="17983" y="9203"/>
                </a:moveTo>
                <a:cubicBezTo>
                  <a:pt x="18533" y="9292"/>
                  <a:pt x="19090" y="9243"/>
                  <a:pt x="19645" y="9227"/>
                </a:cubicBezTo>
                <a:cubicBezTo>
                  <a:pt x="20158" y="9212"/>
                  <a:pt x="20670" y="9189"/>
                  <a:pt x="21183" y="9178"/>
                </a:cubicBezTo>
              </a:path>
              <a:path w="5037" h="9006">
                <a:moveTo>
                  <a:pt x="20588" y="9550"/>
                </a:moveTo>
                <a:cubicBezTo>
                  <a:pt x="20563" y="9830"/>
                  <a:pt x="20543" y="10089"/>
                  <a:pt x="20563" y="10368"/>
                </a:cubicBezTo>
              </a:path>
              <a:path w="5037" h="9006">
                <a:moveTo>
                  <a:pt x="20935" y="9624"/>
                </a:moveTo>
                <a:cubicBezTo>
                  <a:pt x="21058" y="9551"/>
                  <a:pt x="21343" y="9498"/>
                  <a:pt x="21208" y="9773"/>
                </a:cubicBezTo>
                <a:cubicBezTo>
                  <a:pt x="21167" y="9823"/>
                  <a:pt x="21125" y="9872"/>
                  <a:pt x="21084" y="9922"/>
                </a:cubicBezTo>
                <a:cubicBezTo>
                  <a:pt x="21067" y="9938"/>
                  <a:pt x="21051" y="9955"/>
                  <a:pt x="21034" y="9971"/>
                </a:cubicBezTo>
                <a:cubicBezTo>
                  <a:pt x="21281" y="9901"/>
                  <a:pt x="21433" y="10005"/>
                  <a:pt x="21183" y="10244"/>
                </a:cubicBezTo>
                <a:cubicBezTo>
                  <a:pt x="21038" y="10383"/>
                  <a:pt x="20966" y="10356"/>
                  <a:pt x="20811" y="10294"/>
                </a:cubicBezTo>
              </a:path>
              <a:path w="5037" h="9006">
                <a:moveTo>
                  <a:pt x="20191" y="10666"/>
                </a:moveTo>
                <a:cubicBezTo>
                  <a:pt x="20541" y="10727"/>
                  <a:pt x="20833" y="10688"/>
                  <a:pt x="21183" y="10641"/>
                </a:cubicBezTo>
                <a:cubicBezTo>
                  <a:pt x="21324" y="10623"/>
                  <a:pt x="21331" y="10615"/>
                  <a:pt x="21406" y="10616"/>
                </a:cubicBezTo>
              </a:path>
              <a:path w="5037" h="9006">
                <a:moveTo>
                  <a:pt x="20588" y="11162"/>
                </a:moveTo>
                <a:cubicBezTo>
                  <a:pt x="20667" y="11068"/>
                  <a:pt x="20695" y="11040"/>
                  <a:pt x="20811" y="11013"/>
                </a:cubicBezTo>
                <a:cubicBezTo>
                  <a:pt x="20957" y="11117"/>
                  <a:pt x="20885" y="11331"/>
                  <a:pt x="20786" y="11485"/>
                </a:cubicBezTo>
                <a:cubicBezTo>
                  <a:pt x="20765" y="11518"/>
                  <a:pt x="20399" y="11942"/>
                  <a:pt x="20414" y="11956"/>
                </a:cubicBezTo>
                <a:cubicBezTo>
                  <a:pt x="20546" y="12078"/>
                  <a:pt x="20685" y="11671"/>
                  <a:pt x="20861" y="11708"/>
                </a:cubicBezTo>
                <a:cubicBezTo>
                  <a:pt x="21000" y="11737"/>
                  <a:pt x="20920" y="11832"/>
                  <a:pt x="21084" y="11757"/>
                </a:cubicBezTo>
              </a:path>
              <a:path w="5037" h="9006">
                <a:moveTo>
                  <a:pt x="21282" y="11112"/>
                </a:moveTo>
                <a:cubicBezTo>
                  <a:pt x="21114" y="11169"/>
                  <a:pt x="21067" y="11410"/>
                  <a:pt x="21059" y="11584"/>
                </a:cubicBezTo>
                <a:cubicBezTo>
                  <a:pt x="21081" y="11718"/>
                  <a:pt x="21079" y="11756"/>
                  <a:pt x="21158" y="11807"/>
                </a:cubicBezTo>
                <a:cubicBezTo>
                  <a:pt x="21336" y="11700"/>
                  <a:pt x="21559" y="11496"/>
                  <a:pt x="21357" y="11261"/>
                </a:cubicBezTo>
                <a:cubicBezTo>
                  <a:pt x="21235" y="11213"/>
                  <a:pt x="21196" y="11196"/>
                  <a:pt x="21109" y="11237"/>
                </a:cubicBezTo>
              </a:path>
              <a:path w="5037" h="9006">
                <a:moveTo>
                  <a:pt x="19546" y="10468"/>
                </a:moveTo>
                <a:cubicBezTo>
                  <a:pt x="19546" y="10318"/>
                  <a:pt x="19527" y="10250"/>
                  <a:pt x="19348" y="10244"/>
                </a:cubicBezTo>
                <a:cubicBezTo>
                  <a:pt x="19135" y="10236"/>
                  <a:pt x="18812" y="10463"/>
                  <a:pt x="18926" y="10716"/>
                </a:cubicBezTo>
                <a:cubicBezTo>
                  <a:pt x="19046" y="10981"/>
                  <a:pt x="19430" y="11102"/>
                  <a:pt x="19298" y="11460"/>
                </a:cubicBezTo>
                <a:cubicBezTo>
                  <a:pt x="19265" y="11501"/>
                  <a:pt x="19232" y="11543"/>
                  <a:pt x="19199" y="11584"/>
                </a:cubicBezTo>
                <a:cubicBezTo>
                  <a:pt x="18992" y="11481"/>
                  <a:pt x="19140" y="11162"/>
                  <a:pt x="19224" y="10964"/>
                </a:cubicBezTo>
                <a:cubicBezTo>
                  <a:pt x="19262" y="10873"/>
                  <a:pt x="19601" y="10339"/>
                  <a:pt x="19496" y="10269"/>
                </a:cubicBezTo>
                <a:cubicBezTo>
                  <a:pt x="19463" y="10261"/>
                  <a:pt x="19430" y="10252"/>
                  <a:pt x="19397" y="10244"/>
                </a:cubicBezTo>
              </a:path>
              <a:path w="5037" h="9006">
                <a:moveTo>
                  <a:pt x="18231" y="12824"/>
                </a:moveTo>
                <a:cubicBezTo>
                  <a:pt x="18778" y="13183"/>
                  <a:pt x="19343" y="13380"/>
                  <a:pt x="19993" y="13469"/>
                </a:cubicBezTo>
                <a:cubicBezTo>
                  <a:pt x="20849" y="13586"/>
                  <a:pt x="21692" y="13473"/>
                  <a:pt x="22324" y="12824"/>
                </a:cubicBezTo>
                <a:cubicBezTo>
                  <a:pt x="22700" y="12438"/>
                  <a:pt x="22810" y="11948"/>
                  <a:pt x="22771" y="11435"/>
                </a:cubicBezTo>
                <a:cubicBezTo>
                  <a:pt x="22735" y="10967"/>
                  <a:pt x="22615" y="10590"/>
                  <a:pt x="22324" y="10220"/>
                </a:cubicBezTo>
                <a:cubicBezTo>
                  <a:pt x="22095" y="9929"/>
                  <a:pt x="21845" y="9612"/>
                  <a:pt x="21580" y="9351"/>
                </a:cubicBezTo>
                <a:cubicBezTo>
                  <a:pt x="21335" y="9110"/>
                  <a:pt x="21007" y="8982"/>
                  <a:pt x="20662" y="8979"/>
                </a:cubicBezTo>
                <a:cubicBezTo>
                  <a:pt x="20142" y="8974"/>
                  <a:pt x="19564" y="9184"/>
                  <a:pt x="19124" y="9451"/>
                </a:cubicBezTo>
                <a:cubicBezTo>
                  <a:pt x="18656" y="9735"/>
                  <a:pt x="18143" y="10161"/>
                  <a:pt x="17909" y="10666"/>
                </a:cubicBezTo>
                <a:cubicBezTo>
                  <a:pt x="17683" y="11153"/>
                  <a:pt x="17771" y="11667"/>
                  <a:pt x="17934" y="12154"/>
                </a:cubicBezTo>
                <a:cubicBezTo>
                  <a:pt x="18049" y="12431"/>
                  <a:pt x="18080" y="12511"/>
                  <a:pt x="18182" y="126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92920" y="1393920"/>
            <a:ext cx="196920" cy="785880"/>
          </a:xfrm>
          <a:custGeom>
            <a:avLst/>
            <a:gdLst/>
            <a:ahLst/>
            <a:rect l="l" t="t" r="r" b="b"/>
            <a:pathLst>
              <a:path w="547" h="2183">
                <a:moveTo>
                  <a:pt x="19149" y="4862"/>
                </a:moveTo>
                <a:cubicBezTo>
                  <a:pt x="19229" y="5155"/>
                  <a:pt x="19365" y="5430"/>
                  <a:pt x="19496" y="5705"/>
                </a:cubicBezTo>
                <a:cubicBezTo>
                  <a:pt x="19558" y="5834"/>
                  <a:pt x="19623" y="5933"/>
                  <a:pt x="19695" y="6052"/>
                </a:cubicBezTo>
              </a:path>
              <a:path w="547" h="2183">
                <a:moveTo>
                  <a:pt x="19199" y="3870"/>
                </a:moveTo>
                <a:cubicBezTo>
                  <a:pt x="19343" y="3890"/>
                  <a:pt x="19474" y="3874"/>
                  <a:pt x="19621" y="3870"/>
                </a:cubicBezTo>
                <a:cubicBezTo>
                  <a:pt x="19637" y="3870"/>
                  <a:pt x="19654" y="3870"/>
                  <a:pt x="19670" y="3870"/>
                </a:cubicBezTo>
                <a:cubicBezTo>
                  <a:pt x="19521" y="4132"/>
                  <a:pt x="19406" y="4384"/>
                  <a:pt x="19298" y="4663"/>
                </a:cubicBezTo>
                <a:cubicBezTo>
                  <a:pt x="19290" y="4680"/>
                  <a:pt x="19281" y="4696"/>
                  <a:pt x="19273" y="47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23120" y="1608120"/>
            <a:ext cx="534960" cy="704880"/>
          </a:xfrm>
          <a:custGeom>
            <a:avLst/>
            <a:gdLst/>
            <a:ahLst/>
            <a:rect l="l" t="t" r="r" b="b"/>
            <a:pathLst>
              <a:path w="1489" h="1960">
                <a:moveTo>
                  <a:pt x="21258" y="5283"/>
                </a:moveTo>
                <a:cubicBezTo>
                  <a:pt x="21289" y="5365"/>
                  <a:pt x="21340" y="5447"/>
                  <a:pt x="21357" y="5531"/>
                </a:cubicBezTo>
              </a:path>
              <a:path w="1489" h="1960">
                <a:moveTo>
                  <a:pt x="21431" y="5209"/>
                </a:moveTo>
                <a:cubicBezTo>
                  <a:pt x="21368" y="5336"/>
                  <a:pt x="21302" y="5458"/>
                  <a:pt x="21233" y="5581"/>
                </a:cubicBezTo>
                <a:cubicBezTo>
                  <a:pt x="21225" y="5598"/>
                  <a:pt x="21216" y="5614"/>
                  <a:pt x="21208" y="5631"/>
                </a:cubicBezTo>
              </a:path>
              <a:path w="1489" h="1960">
                <a:moveTo>
                  <a:pt x="21630" y="5556"/>
                </a:moveTo>
                <a:cubicBezTo>
                  <a:pt x="21623" y="5631"/>
                  <a:pt x="21615" y="5638"/>
                  <a:pt x="21605" y="5705"/>
                </a:cubicBezTo>
                <a:cubicBezTo>
                  <a:pt x="21717" y="5728"/>
                  <a:pt x="21748" y="5743"/>
                  <a:pt x="21803" y="5680"/>
                </a:cubicBezTo>
              </a:path>
              <a:path w="1489" h="1960">
                <a:moveTo>
                  <a:pt x="21779" y="5556"/>
                </a:moveTo>
                <a:cubicBezTo>
                  <a:pt x="21760" y="5685"/>
                  <a:pt x="21745" y="5806"/>
                  <a:pt x="21704" y="5928"/>
                </a:cubicBezTo>
              </a:path>
              <a:path w="1489" h="1960">
                <a:moveTo>
                  <a:pt x="21580" y="5383"/>
                </a:moveTo>
                <a:cubicBezTo>
                  <a:pt x="21679" y="5383"/>
                  <a:pt x="21713" y="5383"/>
                  <a:pt x="21779" y="5383"/>
                </a:cubicBezTo>
              </a:path>
              <a:path w="1489" h="1960">
                <a:moveTo>
                  <a:pt x="21580" y="4911"/>
                </a:moveTo>
                <a:cubicBezTo>
                  <a:pt x="21575" y="4953"/>
                  <a:pt x="21504" y="5113"/>
                  <a:pt x="21605" y="5110"/>
                </a:cubicBezTo>
                <a:cubicBezTo>
                  <a:pt x="21646" y="5102"/>
                  <a:pt x="21688" y="5093"/>
                  <a:pt x="21729" y="5085"/>
                </a:cubicBezTo>
              </a:path>
              <a:path w="1489" h="1960">
                <a:moveTo>
                  <a:pt x="21704" y="4862"/>
                </a:moveTo>
                <a:cubicBezTo>
                  <a:pt x="21682" y="5060"/>
                  <a:pt x="21673" y="5109"/>
                  <a:pt x="21679" y="5234"/>
                </a:cubicBezTo>
              </a:path>
              <a:path w="1489" h="1960">
                <a:moveTo>
                  <a:pt x="20340" y="4465"/>
                </a:moveTo>
                <a:cubicBezTo>
                  <a:pt x="20639" y="4634"/>
                  <a:pt x="20804" y="5082"/>
                  <a:pt x="21010" y="5383"/>
                </a:cubicBezTo>
                <a:cubicBezTo>
                  <a:pt x="21223" y="5694"/>
                  <a:pt x="21446" y="5975"/>
                  <a:pt x="21630" y="6300"/>
                </a:cubicBezTo>
                <a:cubicBezTo>
                  <a:pt x="21638" y="6308"/>
                  <a:pt x="21646" y="6317"/>
                  <a:pt x="21654" y="6325"/>
                </a:cubicBezTo>
              </a:path>
              <a:path w="1489" h="1960">
                <a:moveTo>
                  <a:pt x="20340" y="6424"/>
                </a:moveTo>
                <a:cubicBezTo>
                  <a:pt x="20397" y="6235"/>
                  <a:pt x="20625" y="6046"/>
                  <a:pt x="20762" y="5904"/>
                </a:cubicBezTo>
                <a:cubicBezTo>
                  <a:pt x="21079" y="5575"/>
                  <a:pt x="21393" y="5282"/>
                  <a:pt x="21679" y="4936"/>
                </a:cubicBezTo>
                <a:cubicBezTo>
                  <a:pt x="21770" y="4845"/>
                  <a:pt x="21778" y="4837"/>
                  <a:pt x="21828" y="47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242200" y="1625760"/>
            <a:ext cx="893880" cy="509400"/>
          </a:xfrm>
          <a:custGeom>
            <a:avLst/>
            <a:gdLst/>
            <a:ahLst/>
            <a:rect l="l" t="t" r="r" b="b"/>
            <a:pathLst>
              <a:path w="2481" h="1415">
                <a:moveTo>
                  <a:pt x="23292" y="4539"/>
                </a:moveTo>
                <a:cubicBezTo>
                  <a:pt x="23145" y="4547"/>
                  <a:pt x="22895" y="4543"/>
                  <a:pt x="22895" y="4762"/>
                </a:cubicBezTo>
                <a:cubicBezTo>
                  <a:pt x="22895" y="4918"/>
                  <a:pt x="23171" y="5021"/>
                  <a:pt x="23267" y="5135"/>
                </a:cubicBezTo>
                <a:cubicBezTo>
                  <a:pt x="23192" y="5235"/>
                  <a:pt x="23166" y="5268"/>
                  <a:pt x="23068" y="5259"/>
                </a:cubicBezTo>
                <a:cubicBezTo>
                  <a:pt x="22938" y="5041"/>
                  <a:pt x="23052" y="4863"/>
                  <a:pt x="23118" y="4614"/>
                </a:cubicBezTo>
                <a:cubicBezTo>
                  <a:pt x="23126" y="4581"/>
                  <a:pt x="23135" y="4547"/>
                  <a:pt x="23143" y="4514"/>
                </a:cubicBezTo>
              </a:path>
              <a:path w="2481" h="1415">
                <a:moveTo>
                  <a:pt x="23788" y="5209"/>
                </a:moveTo>
                <a:cubicBezTo>
                  <a:pt x="23782" y="5318"/>
                  <a:pt x="23771" y="5422"/>
                  <a:pt x="23763" y="5531"/>
                </a:cubicBezTo>
              </a:path>
              <a:path w="2481" h="1415">
                <a:moveTo>
                  <a:pt x="23688" y="5407"/>
                </a:moveTo>
                <a:cubicBezTo>
                  <a:pt x="23757" y="5387"/>
                  <a:pt x="23813" y="5383"/>
                  <a:pt x="23887" y="5383"/>
                </a:cubicBezTo>
              </a:path>
              <a:path w="2481" h="1415">
                <a:moveTo>
                  <a:pt x="24135" y="4936"/>
                </a:moveTo>
                <a:cubicBezTo>
                  <a:pt x="24160" y="4887"/>
                  <a:pt x="24168" y="4871"/>
                  <a:pt x="24209" y="4862"/>
                </a:cubicBezTo>
                <a:cubicBezTo>
                  <a:pt x="24194" y="4992"/>
                  <a:pt x="24145" y="5087"/>
                  <a:pt x="24110" y="5209"/>
                </a:cubicBezTo>
                <a:cubicBezTo>
                  <a:pt x="24186" y="5209"/>
                  <a:pt x="24212" y="5209"/>
                  <a:pt x="24259" y="5184"/>
                </a:cubicBezTo>
              </a:path>
              <a:path w="2481" h="1415">
                <a:moveTo>
                  <a:pt x="24383" y="4911"/>
                </a:moveTo>
                <a:cubicBezTo>
                  <a:pt x="24312" y="5030"/>
                  <a:pt x="24284" y="5065"/>
                  <a:pt x="24284" y="5209"/>
                </a:cubicBezTo>
                <a:cubicBezTo>
                  <a:pt x="24370" y="5192"/>
                  <a:pt x="24603" y="5117"/>
                  <a:pt x="24457" y="4986"/>
                </a:cubicBezTo>
                <a:cubicBezTo>
                  <a:pt x="24432" y="4978"/>
                  <a:pt x="24408" y="4969"/>
                  <a:pt x="24383" y="4961"/>
                </a:cubicBezTo>
              </a:path>
              <a:path w="2481" h="1415">
                <a:moveTo>
                  <a:pt x="24110" y="5407"/>
                </a:moveTo>
                <a:cubicBezTo>
                  <a:pt x="24218" y="5397"/>
                  <a:pt x="24324" y="5368"/>
                  <a:pt x="24433" y="5358"/>
                </a:cubicBezTo>
              </a:path>
              <a:path w="2481" h="1415">
                <a:moveTo>
                  <a:pt x="24110" y="5606"/>
                </a:moveTo>
                <a:cubicBezTo>
                  <a:pt x="24177" y="5584"/>
                  <a:pt x="24195" y="5579"/>
                  <a:pt x="24234" y="5556"/>
                </a:cubicBezTo>
                <a:cubicBezTo>
                  <a:pt x="24220" y="5717"/>
                  <a:pt x="24206" y="5795"/>
                  <a:pt x="24110" y="5928"/>
                </a:cubicBezTo>
                <a:cubicBezTo>
                  <a:pt x="24187" y="5922"/>
                  <a:pt x="24220" y="5921"/>
                  <a:pt x="24284" y="5879"/>
                </a:cubicBezTo>
              </a:path>
              <a:path w="2481" h="1415">
                <a:moveTo>
                  <a:pt x="24383" y="5606"/>
                </a:moveTo>
                <a:cubicBezTo>
                  <a:pt x="24314" y="5698"/>
                  <a:pt x="24289" y="5723"/>
                  <a:pt x="24309" y="5804"/>
                </a:cubicBezTo>
                <a:cubicBezTo>
                  <a:pt x="24459" y="5821"/>
                  <a:pt x="24638" y="5803"/>
                  <a:pt x="24532" y="5581"/>
                </a:cubicBezTo>
                <a:cubicBezTo>
                  <a:pt x="24469" y="5519"/>
                  <a:pt x="24459" y="5502"/>
                  <a:pt x="24408" y="5482"/>
                </a:cubicBezTo>
              </a:path>
              <a:path w="2481" h="1415">
                <a:moveTo>
                  <a:pt x="24581" y="5333"/>
                </a:moveTo>
                <a:cubicBezTo>
                  <a:pt x="24671" y="5297"/>
                  <a:pt x="24676" y="5280"/>
                  <a:pt x="24730" y="5283"/>
                </a:cubicBezTo>
              </a:path>
              <a:path w="2481" h="1415">
                <a:moveTo>
                  <a:pt x="24532" y="5482"/>
                </a:moveTo>
                <a:cubicBezTo>
                  <a:pt x="24624" y="5482"/>
                  <a:pt x="24650" y="5484"/>
                  <a:pt x="24705" y="5457"/>
                </a:cubicBezTo>
              </a:path>
              <a:path w="2481" h="1415">
                <a:moveTo>
                  <a:pt x="24805" y="4787"/>
                </a:moveTo>
                <a:cubicBezTo>
                  <a:pt x="24901" y="4683"/>
                  <a:pt x="24847" y="4688"/>
                  <a:pt x="24954" y="4688"/>
                </a:cubicBezTo>
                <a:cubicBezTo>
                  <a:pt x="24965" y="4848"/>
                  <a:pt x="24874" y="4913"/>
                  <a:pt x="24805" y="5060"/>
                </a:cubicBezTo>
                <a:cubicBezTo>
                  <a:pt x="24776" y="5122"/>
                  <a:pt x="25002" y="5043"/>
                  <a:pt x="25028" y="5035"/>
                </a:cubicBezTo>
              </a:path>
              <a:path w="2481" h="1415">
                <a:moveTo>
                  <a:pt x="25177" y="4564"/>
                </a:moveTo>
                <a:cubicBezTo>
                  <a:pt x="25104" y="4564"/>
                  <a:pt x="25080" y="4563"/>
                  <a:pt x="25053" y="4614"/>
                </a:cubicBezTo>
                <a:cubicBezTo>
                  <a:pt x="25093" y="4682"/>
                  <a:pt x="25382" y="4873"/>
                  <a:pt x="25276" y="4961"/>
                </a:cubicBezTo>
                <a:cubicBezTo>
                  <a:pt x="25194" y="4989"/>
                  <a:pt x="25161" y="4995"/>
                  <a:pt x="25102" y="4961"/>
                </a:cubicBezTo>
                <a:cubicBezTo>
                  <a:pt x="25123" y="4802"/>
                  <a:pt x="25189" y="4685"/>
                  <a:pt x="25251" y="4539"/>
                </a:cubicBezTo>
              </a:path>
              <a:path w="2481" h="1415">
                <a:moveTo>
                  <a:pt x="24904" y="5259"/>
                </a:moveTo>
                <a:cubicBezTo>
                  <a:pt x="25032" y="5154"/>
                  <a:pt x="25160" y="5090"/>
                  <a:pt x="25326" y="5060"/>
                </a:cubicBezTo>
                <a:cubicBezTo>
                  <a:pt x="25342" y="5060"/>
                  <a:pt x="25359" y="5060"/>
                  <a:pt x="25375" y="5060"/>
                </a:cubicBezTo>
              </a:path>
              <a:path w="2481" h="1415">
                <a:moveTo>
                  <a:pt x="24978" y="5432"/>
                </a:moveTo>
                <a:cubicBezTo>
                  <a:pt x="25063" y="5432"/>
                  <a:pt x="25083" y="5439"/>
                  <a:pt x="25127" y="5407"/>
                </a:cubicBezTo>
                <a:cubicBezTo>
                  <a:pt x="25096" y="5576"/>
                  <a:pt x="25013" y="5624"/>
                  <a:pt x="24904" y="5755"/>
                </a:cubicBezTo>
                <a:cubicBezTo>
                  <a:pt x="25007" y="5742"/>
                  <a:pt x="25039" y="5743"/>
                  <a:pt x="25127" y="5680"/>
                </a:cubicBezTo>
              </a:path>
              <a:path w="2481" h="1415">
                <a:moveTo>
                  <a:pt x="25301" y="5333"/>
                </a:moveTo>
                <a:cubicBezTo>
                  <a:pt x="25241" y="5378"/>
                  <a:pt x="25060" y="5581"/>
                  <a:pt x="25276" y="5581"/>
                </a:cubicBezTo>
                <a:cubicBezTo>
                  <a:pt x="25427" y="5581"/>
                  <a:pt x="25375" y="5400"/>
                  <a:pt x="25375" y="53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205760" y="2473200"/>
            <a:ext cx="644400" cy="642960"/>
          </a:xfrm>
          <a:custGeom>
            <a:avLst/>
            <a:gdLst/>
            <a:ahLst/>
            <a:rect l="l" t="t" r="r" b="b"/>
            <a:pathLst>
              <a:path w="1787" h="1787">
                <a:moveTo>
                  <a:pt x="21109" y="7640"/>
                </a:moveTo>
                <a:cubicBezTo>
                  <a:pt x="21160" y="7741"/>
                  <a:pt x="21208" y="7826"/>
                  <a:pt x="21282" y="7913"/>
                </a:cubicBezTo>
              </a:path>
              <a:path w="1787" h="1787">
                <a:moveTo>
                  <a:pt x="21233" y="7689"/>
                </a:moveTo>
                <a:cubicBezTo>
                  <a:pt x="21167" y="7779"/>
                  <a:pt x="21115" y="7879"/>
                  <a:pt x="21084" y="7987"/>
                </a:cubicBezTo>
              </a:path>
              <a:path w="1787" h="1787">
                <a:moveTo>
                  <a:pt x="21431" y="7987"/>
                </a:moveTo>
                <a:cubicBezTo>
                  <a:pt x="21431" y="8123"/>
                  <a:pt x="21545" y="8086"/>
                  <a:pt x="21679" y="8086"/>
                </a:cubicBezTo>
                <a:cubicBezTo>
                  <a:pt x="21642" y="8221"/>
                  <a:pt x="21631" y="8193"/>
                  <a:pt x="21481" y="8235"/>
                </a:cubicBezTo>
              </a:path>
              <a:path w="1787" h="1787">
                <a:moveTo>
                  <a:pt x="21506" y="7987"/>
                </a:moveTo>
                <a:cubicBezTo>
                  <a:pt x="21573" y="7966"/>
                  <a:pt x="21635" y="7948"/>
                  <a:pt x="21704" y="7938"/>
                </a:cubicBezTo>
              </a:path>
              <a:path w="1787" h="1787">
                <a:moveTo>
                  <a:pt x="21382" y="7689"/>
                </a:moveTo>
                <a:cubicBezTo>
                  <a:pt x="21504" y="7720"/>
                  <a:pt x="21629" y="7722"/>
                  <a:pt x="21754" y="7739"/>
                </a:cubicBezTo>
                <a:cubicBezTo>
                  <a:pt x="21762" y="7739"/>
                  <a:pt x="21771" y="7739"/>
                  <a:pt x="21779" y="7739"/>
                </a:cubicBezTo>
              </a:path>
              <a:path w="1787" h="1787">
                <a:moveTo>
                  <a:pt x="21605" y="7293"/>
                </a:moveTo>
                <a:lnTo>
                  <a:pt x="21605" y="7293"/>
                </a:lnTo>
              </a:path>
              <a:path w="1787" h="1787">
                <a:moveTo>
                  <a:pt x="21654" y="7293"/>
                </a:moveTo>
                <a:cubicBezTo>
                  <a:pt x="21591" y="7293"/>
                  <a:pt x="21472" y="7257"/>
                  <a:pt x="21456" y="7342"/>
                </a:cubicBezTo>
                <a:cubicBezTo>
                  <a:pt x="21456" y="7400"/>
                  <a:pt x="21456" y="7408"/>
                  <a:pt x="21456" y="7441"/>
                </a:cubicBezTo>
                <a:cubicBezTo>
                  <a:pt x="21526" y="7428"/>
                  <a:pt x="21786" y="7399"/>
                  <a:pt x="21654" y="7565"/>
                </a:cubicBezTo>
                <a:cubicBezTo>
                  <a:pt x="21594" y="7640"/>
                  <a:pt x="21512" y="7615"/>
                  <a:pt x="21431" y="7615"/>
                </a:cubicBezTo>
              </a:path>
              <a:path w="1787" h="1787">
                <a:moveTo>
                  <a:pt x="20017" y="6871"/>
                </a:moveTo>
                <a:cubicBezTo>
                  <a:pt x="20324" y="7305"/>
                  <a:pt x="20599" y="7695"/>
                  <a:pt x="21034" y="8012"/>
                </a:cubicBezTo>
                <a:cubicBezTo>
                  <a:pt x="21299" y="8205"/>
                  <a:pt x="21584" y="8307"/>
                  <a:pt x="21779" y="8582"/>
                </a:cubicBezTo>
                <a:cubicBezTo>
                  <a:pt x="21787" y="8599"/>
                  <a:pt x="21795" y="8615"/>
                  <a:pt x="21803" y="8632"/>
                </a:cubicBezTo>
              </a:path>
              <a:path w="1787" h="1787">
                <a:moveTo>
                  <a:pt x="21654" y="7243"/>
                </a:moveTo>
                <a:cubicBezTo>
                  <a:pt x="21355" y="7520"/>
                  <a:pt x="21075" y="7824"/>
                  <a:pt x="20811" y="8136"/>
                </a:cubicBezTo>
                <a:cubicBezTo>
                  <a:pt x="20669" y="8304"/>
                  <a:pt x="20562" y="8471"/>
                  <a:pt x="20464" y="86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259840" y="2536920"/>
            <a:ext cx="260280" cy="204840"/>
          </a:xfrm>
          <a:custGeom>
            <a:avLst/>
            <a:gdLst/>
            <a:ahLst/>
            <a:rect l="l" t="t" r="r" b="b"/>
            <a:pathLst>
              <a:path w="721" h="571">
                <a:moveTo>
                  <a:pt x="22944" y="7218"/>
                </a:moveTo>
                <a:cubicBezTo>
                  <a:pt x="22962" y="7359"/>
                  <a:pt x="22974" y="7476"/>
                  <a:pt x="22944" y="7615"/>
                </a:cubicBezTo>
              </a:path>
              <a:path w="721" h="571">
                <a:moveTo>
                  <a:pt x="23540" y="7045"/>
                </a:moveTo>
                <a:cubicBezTo>
                  <a:pt x="23406" y="7078"/>
                  <a:pt x="23269" y="7050"/>
                  <a:pt x="23242" y="7193"/>
                </a:cubicBezTo>
                <a:cubicBezTo>
                  <a:pt x="23242" y="7276"/>
                  <a:pt x="23242" y="7292"/>
                  <a:pt x="23242" y="7342"/>
                </a:cubicBezTo>
                <a:cubicBezTo>
                  <a:pt x="23410" y="7239"/>
                  <a:pt x="23477" y="7230"/>
                  <a:pt x="23664" y="7293"/>
                </a:cubicBezTo>
                <a:cubicBezTo>
                  <a:pt x="23603" y="7594"/>
                  <a:pt x="23487" y="7588"/>
                  <a:pt x="23192" y="76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02080" y="1224000"/>
            <a:ext cx="322200" cy="5437080"/>
          </a:xfrm>
          <a:custGeom>
            <a:avLst/>
            <a:gdLst/>
            <a:ahLst/>
            <a:rect l="l" t="t" r="r" b="b"/>
            <a:pathLst>
              <a:path w="894" h="15107">
                <a:moveTo>
                  <a:pt x="13122" y="3398"/>
                </a:moveTo>
                <a:cubicBezTo>
                  <a:pt x="12966" y="3801"/>
                  <a:pt x="12787" y="4202"/>
                  <a:pt x="12650" y="4614"/>
                </a:cubicBezTo>
                <a:cubicBezTo>
                  <a:pt x="12370" y="5452"/>
                  <a:pt x="12489" y="6143"/>
                  <a:pt x="12526" y="6995"/>
                </a:cubicBezTo>
                <a:cubicBezTo>
                  <a:pt x="12559" y="7755"/>
                  <a:pt x="12544" y="8591"/>
                  <a:pt x="12502" y="9351"/>
                </a:cubicBezTo>
                <a:cubicBezTo>
                  <a:pt x="12485" y="9657"/>
                  <a:pt x="12270" y="9988"/>
                  <a:pt x="12328" y="10294"/>
                </a:cubicBezTo>
                <a:cubicBezTo>
                  <a:pt x="12405" y="10698"/>
                  <a:pt x="12618" y="10865"/>
                  <a:pt x="12601" y="11336"/>
                </a:cubicBezTo>
                <a:cubicBezTo>
                  <a:pt x="12580" y="11943"/>
                  <a:pt x="12476" y="12535"/>
                  <a:pt x="12526" y="13146"/>
                </a:cubicBezTo>
                <a:cubicBezTo>
                  <a:pt x="12612" y="14194"/>
                  <a:pt x="12410" y="15068"/>
                  <a:pt x="12328" y="16098"/>
                </a:cubicBezTo>
                <a:cubicBezTo>
                  <a:pt x="12286" y="16633"/>
                  <a:pt x="12278" y="17174"/>
                  <a:pt x="12278" y="17711"/>
                </a:cubicBezTo>
                <a:cubicBezTo>
                  <a:pt x="12278" y="17982"/>
                  <a:pt x="12255" y="18236"/>
                  <a:pt x="12229" y="185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subtract fractions and mixed numb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360" y="1828440"/>
            <a:ext cx="7391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1:44:19Z</dcterms:created>
  <dc:creator>Brian McGrath</dc:creator>
  <dc:description/>
  <dc:language>en-US</dc:language>
  <cp:lastModifiedBy>deanne elizabeth mcgrath</cp:lastModifiedBy>
  <dcterms:modified xsi:type="dcterms:W3CDTF">2010-11-09T18:50:14Z</dcterms:modified>
  <cp:revision>2</cp:revision>
  <dc:subject/>
  <dc:title>Warm-up:</dc:title>
</cp:coreProperties>
</file>